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7A3-C6AF-4DB0-84CC-A99CAAD8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053-1FE6-4B27-A48A-ADC21D9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24F-ABEC-49F8-9B66-529303CD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EF8-2301-4614-AD84-F8E596C8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D64-3F8F-43E3-83C4-462DE047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AE04-64A2-4FDB-918A-BDC63EBA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52E2-8DD1-4EE6-8623-26951365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AF4-8E15-4DE9-8858-0F88D14C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148F-13C2-47F3-B724-00E639BA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121C-481F-4141-A0B1-F7EF840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AB29-67CA-4B47-96F2-D6FD3A5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0B3-DC6B-447D-8F37-593FE30A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2680-9204-4204-9A11-FAF3955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F971-9C70-49CB-A2A3-44656879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FA2C-4A72-43D1-8790-F01B381C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7A6C-6997-4863-934E-5F1C0604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B5F7-036E-4B0B-A04C-C26505A6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224-E156-4196-AE92-CA7EA4B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C8A-44F1-4BFB-8D2C-37019A6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1CD-FD50-455A-96AB-BAFE0916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E76-545A-44AB-BC1F-C16D2BC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3EA-2814-4CA4-B944-F1AEC30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D19-50C5-4C2B-8899-8DDBEBE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98B-9F7F-4E7E-8837-A17EBC2E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3C37-496C-4AE8-8537-B9BC912FC1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AE06-B498-46BB-AACC-4924E2578943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Работа с педагогическим коллективом.</a:t>
            </a:r>
            <a:br>
              <a:rPr sz="4000"/>
            </a:br>
            <a:r>
              <a:rPr b="0" lang="ru-RU" sz="4000" spc="-1" strike="noStrike">
                <a:solidFill>
                  <a:srgbClr val="f7d47d"/>
                </a:solidFill>
                <a:latin typeface="Times New Roman"/>
              </a:rPr>
              <a:t>Круглый стол .</a:t>
            </a:r>
            <a:br>
              <a:rPr sz="4000"/>
            </a:br>
            <a:r>
              <a:rPr b="0" lang="ru-RU" sz="3600" spc="-1" strike="noStrike">
                <a:solidFill>
                  <a:srgbClr val="f7d4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848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«Особенности суицидального поведения детей в резные периоды жизни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2f1311"/>
                </a:solidFill>
                <a:latin typeface="Times New Roman"/>
              </a:rPr>
              <a:t>Педагог – психолог: Журавлева В.С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57040"/>
            <a:ext cx="73245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9af7d"/>
                </a:solidFill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79af7d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d5b781"/>
                </a:solidFill>
                <a:latin typeface="Arial"/>
              </a:rPr>
              <a:t>Профилактика  суицидов и способности распознать признаки грядущей опасности, рассмотреть проблему суицида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219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9af7d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b781"/>
                </a:solidFill>
                <a:latin typeface="Arial"/>
              </a:rPr>
              <a:t>Просвещение педагогического коллектива по направленности суицидального поведени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b781"/>
                </a:solidFill>
                <a:latin typeface="Arial"/>
              </a:rPr>
              <a:t>Проанализировать основные понятия и подходы к изучению проблемы суицид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19240" indent="-2192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b781"/>
                </a:solidFill>
                <a:latin typeface="Arial"/>
              </a:rPr>
              <a:t>Рассмотреть этапы, виды суицида 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19240" indent="-219240">
              <a:spcBef>
                <a:spcPts val="7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5b781"/>
                </a:solidFill>
                <a:latin typeface="Arial"/>
              </a:rPr>
              <a:t>Сбор диагностического материала, психологические рекомендации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92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 marL="219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19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Причины: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Лично-семейные конфликты (развод, болезнь или смерть близких, одиночество, неудачная любовь, оскорбление)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2. Состояние здоровья (психические и соматические заболевания, инвалидность)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3. Конфликты, связанные с антисоциальным поведением суицидента (опасения уголовной ответственности, позор, боязнь наказания)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4. Конфликт, связанный с работой или учебо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5. Материально-бытовые трудности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d47d"/>
                </a:solidFill>
                <a:latin typeface="Arial"/>
              </a:rPr>
              <a:t>Общие черты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7620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й целью всех самоубийств является поиск решения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й задачей всех суицидов является прекращение сознания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им стимулом при суициде является невыносимая психическая бол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им стрессором при суициде являются фрустрированные психологические потребност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й суицидальной эмоцией является беспомощность – безнадежность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им состоянием психики является сужение когнитивной сферы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им действием при суициде является агрессия (бегство).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им коммуникативным актом при суициде является сообщение о своем намере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бщей закономерностью суицида является соответствие суицидального поведения общему стилю поведения в течение жизни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196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Arial"/>
              </a:rPr>
              <a:t>Н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аше Дерево жизни ожило. Оно ожило (зазеленело, зацвело) благодаря нашей любви, нашему вниманию к людям, которые нам так необходимы и каждому из них также необходима ваша любовь. В каждом из нас есть столько любви, сколько людей мы любим, как на нашем дереве, нашлось место каждому вашему цветочку и листочку. И от любви оно выглядит живым, здоровым и цветущи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пасибо за внимание!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нтина</cp:lastModifiedBy>
  <dcterms:modified xsi:type="dcterms:W3CDTF">2019-03-14T06:13:4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