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BA35A-4B52-463A-8303-F3616EFB3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98350-06F1-4871-B1EA-892C8B20D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06D49-1FB4-494E-B666-627755DB1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50A76-2CA3-4AD6-AB3F-A6984977A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CB20E-2711-428A-B1DB-E760753A9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9E24E-BFF6-4C1B-85DD-405B8045A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830DE-D509-4E5B-993A-C93EB99C4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A15C8-7B5A-407F-9BB3-83545F3A3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262BF-0DCF-4832-8CAD-51AD2ACC3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2C424-1056-4911-BA7D-701C55E7A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178AD-74CD-4558-BC96-E32202966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8CB8F-2F04-4F74-BA4A-2CA45829D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48136-5910-459C-A73F-1ABA1AADC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DCE68-127E-4857-8662-609902990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4FB0F-3834-466D-9FA7-2EC8A1588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E5275-C687-4BEB-8963-6C03BB026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B1599-7453-414E-8C67-C38C89162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1AB24-0847-4132-9957-739C92150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AA676-FEE2-4658-A539-642EB99E6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6EF97-1F3C-409A-8030-70C43AF01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91E6-75AB-48A7-B01F-6E4FCAFEB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B59B-ABB9-41B4-B364-7A7B7DBF8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4A53-59D9-4FFB-AA9A-5C2135C5B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D74F1-09AA-4F81-A3E8-78A89DCA5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3080" cy="6950160"/>
            <a:chOff x="-86760" y="-93600"/>
            <a:chExt cx="2773080" cy="6950160"/>
          </a:xfrm>
        </p:grpSpPr>
        <p:sp>
          <p:nvSpPr>
            <p:cNvPr id="1" name="Freeform 3"/>
            <p:cNvSpPr/>
            <p:nvPr/>
          </p:nvSpPr>
          <p:spPr>
            <a:xfrm>
              <a:off x="-7920" y="5178600"/>
              <a:ext cx="749160" cy="1272960"/>
            </a:xfrm>
            <a:custGeom>
              <a:avLst/>
              <a:gdLst>
                <a:gd name="textAreaLeft" fmla="*/ 0 w 749160"/>
                <a:gd name="textAreaRight" fmla="*/ 749520 w 749160"/>
                <a:gd name="textAreaTop" fmla="*/ 0 h 1272960"/>
                <a:gd name="textAreaBottom" fmla="*/ 1273320 h 1272960"/>
              </a:gdLst>
              <a:ahLst/>
              <a:rect l="textAreaLeft" t="textAreaTop" r="textAreaRight" b="textAreaBottom"/>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gd name="textAreaLeft" fmla="*/ -360 w 227160"/>
                  <a:gd name="textAreaRight" fmla="*/ 227160 w 227160"/>
                  <a:gd name="textAreaTop" fmla="*/ 0 h 264240"/>
                  <a:gd name="textAreaBottom" fmla="*/ 264600 h 2642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gd name="textAreaLeft" fmla="*/ -360 w 388440"/>
                  <a:gd name="textAreaRight" fmla="*/ 388440 w 388440"/>
                  <a:gd name="textAreaTop" fmla="*/ 0 h 219600"/>
                  <a:gd name="textAreaBottom" fmla="*/ 219960 h 219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gd name="textAreaLeft" fmla="*/ 360 w 406080"/>
                  <a:gd name="textAreaRight" fmla="*/ 406800 w 406080"/>
                  <a:gd name="textAreaTop" fmla="*/ 0 h 111600"/>
                  <a:gd name="textAreaBottom" fmla="*/ 111960 h 1116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gd name="textAreaLeft" fmla="*/ 0 w 1127160"/>
                <a:gd name="textAreaRight" fmla="*/ 1127520 w 1127160"/>
                <a:gd name="textAreaTop" fmla="*/ 0 h 1219320"/>
                <a:gd name="textAreaBottom" fmla="*/ 1219680 h 1219320"/>
              </a:gdLst>
              <a:ahLst/>
              <a:rect l="textAreaLeft" t="textAreaTop" r="textAreaRight" b="textAreaBottom"/>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400" cy="3117960"/>
              <a:chOff x="-1080" y="2601000"/>
              <a:chExt cx="2687400" cy="3117960"/>
            </a:xfrm>
          </p:grpSpPr>
          <p:sp>
            <p:nvSpPr>
              <p:cNvPr id="8" name="Freeform 10"/>
              <p:cNvSpPr/>
              <p:nvPr/>
            </p:nvSpPr>
            <p:spPr>
              <a:xfrm flipH="1" rot="789600">
                <a:off x="386640" y="2698560"/>
                <a:ext cx="975240" cy="1005120"/>
              </a:xfrm>
              <a:custGeom>
                <a:avLst/>
                <a:gdLst>
                  <a:gd name="textAreaLeft" fmla="*/ -360 w 975240"/>
                  <a:gd name="textAreaRight" fmla="*/ 975240 w 975240"/>
                  <a:gd name="textAreaTop" fmla="*/ 0 h 1005120"/>
                  <a:gd name="textAreaBottom" fmla="*/ 1005480 h 1005120"/>
                </a:gdLst>
                <a:ahLst/>
                <a:rect l="textAreaLeft" t="textAreaTop" r="textAreaRight" b="textAreaBottom"/>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gd name="textAreaLeft" fmla="*/ -360 w 816120"/>
                  <a:gd name="textAreaRight" fmla="*/ 816120 w 816120"/>
                  <a:gd name="textAreaTop" fmla="*/ 0 h 1021680"/>
                  <a:gd name="textAreaBottom" fmla="*/ 1022040 h 1021680"/>
                </a:gdLst>
                <a:ahLst/>
                <a:rect l="textAreaLeft" t="textAreaTop" r="textAreaRight" b="textAreaBottom"/>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gd name="textAreaLeft" fmla="*/ 360 w 289440"/>
                  <a:gd name="textAreaRight" fmla="*/ 290160 w 289440"/>
                  <a:gd name="textAreaTop" fmla="*/ 0 h 516960"/>
                  <a:gd name="textAreaBottom" fmla="*/ 517320 h 51696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gd name="textAreaLeft" fmla="*/ 360 w 264960"/>
                  <a:gd name="textAreaRight" fmla="*/ 265680 w 264960"/>
                  <a:gd name="textAreaTop" fmla="*/ 0 h 308160"/>
                  <a:gd name="textAreaBottom" fmla="*/ 308520 h 3081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840" y="3850560"/>
                <a:ext cx="65520" cy="182520"/>
              </a:xfrm>
              <a:custGeom>
                <a:avLst/>
                <a:gdLst>
                  <a:gd name="textAreaLeft" fmla="*/ 360 w 65520"/>
                  <a:gd name="textAreaRight" fmla="*/ 66240 w 65520"/>
                  <a:gd name="textAreaTop" fmla="*/ 0 h 182520"/>
                  <a:gd name="textAreaBottom" fmla="*/ 182880 h 18252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4200" cy="1663920"/>
                <a:chOff x="852120" y="4055040"/>
                <a:chExt cx="1834200" cy="1663920"/>
              </a:xfrm>
            </p:grpSpPr>
            <p:sp>
              <p:nvSpPr>
                <p:cNvPr id="14" name="Freeform 16"/>
                <p:cNvSpPr/>
                <p:nvPr/>
              </p:nvSpPr>
              <p:spPr>
                <a:xfrm flipH="1" rot="7102800">
                  <a:off x="1263600" y="3943800"/>
                  <a:ext cx="475560" cy="1219320"/>
                </a:xfrm>
                <a:custGeom>
                  <a:avLst/>
                  <a:gdLst>
                    <a:gd name="textAreaLeft" fmla="*/ -360 w 475560"/>
                    <a:gd name="textAreaRight" fmla="*/ 475560 w 475560"/>
                    <a:gd name="textAreaTop" fmla="*/ 0 h 1219320"/>
                    <a:gd name="textAreaBottom" fmla="*/ 1219680 h 1219320"/>
                  </a:gdLst>
                  <a:ahLst/>
                  <a:rect l="textAreaLeft" t="textAreaTop" r="textAreaRight" b="textAreaBottom"/>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33880" y="4975200"/>
                  <a:ext cx="109800" cy="500400"/>
                </a:xfrm>
                <a:custGeom>
                  <a:avLst/>
                  <a:gdLst>
                    <a:gd name="textAreaLeft" fmla="*/ -360 w 109800"/>
                    <a:gd name="textAreaRight" fmla="*/ 109800 w 109800"/>
                    <a:gd name="textAreaTop" fmla="*/ 0 h 500400"/>
                    <a:gd name="textAreaBottom" fmla="*/ 500760 h 500400"/>
                  </a:gdLst>
                  <a:ahLst/>
                  <a:rect l="textAreaLeft" t="textAreaTop" r="textAreaRight" b="textAreaBottom"/>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4240"/>
                </a:xfrm>
                <a:custGeom>
                  <a:avLst/>
                  <a:gdLst>
                    <a:gd name="textAreaLeft" fmla="*/ -360 w 199080"/>
                    <a:gd name="textAreaRight" fmla="*/ 199080 w 199080"/>
                    <a:gd name="textAreaTop" fmla="*/ 0 h 84240"/>
                    <a:gd name="textAreaBottom" fmla="*/ 84600 h 84240"/>
                  </a:gdLst>
                  <a:ahLst/>
                  <a:rect l="textAreaLeft" t="textAreaTop" r="textAreaRight" b="textAreaBottom"/>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800" bIns="3780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280" y="6173640"/>
              <a:ext cx="790920" cy="634680"/>
              <a:chOff x="467280" y="6173640"/>
              <a:chExt cx="790920" cy="634680"/>
            </a:xfrm>
          </p:grpSpPr>
          <p:sp>
            <p:nvSpPr>
              <p:cNvPr id="18" name="Freeform 20"/>
              <p:cNvSpPr/>
              <p:nvPr/>
            </p:nvSpPr>
            <p:spPr>
              <a:xfrm rot="6248400">
                <a:off x="1012680" y="6172560"/>
                <a:ext cx="196560" cy="254160"/>
              </a:xfrm>
              <a:custGeom>
                <a:avLst/>
                <a:gdLst>
                  <a:gd name="textAreaLeft" fmla="*/ 0 w 196560"/>
                  <a:gd name="textAreaRight" fmla="*/ 196920 w 196560"/>
                  <a:gd name="textAreaTop" fmla="*/ 0 h 254160"/>
                  <a:gd name="textAreaBottom" fmla="*/ 254520 h 25416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59600" y="6513480"/>
                <a:ext cx="336600" cy="210960"/>
              </a:xfrm>
              <a:custGeom>
                <a:avLst/>
                <a:gdLst>
                  <a:gd name="textAreaLeft" fmla="*/ 0 w 336600"/>
                  <a:gd name="textAreaRight" fmla="*/ 336960 w 336600"/>
                  <a:gd name="textAreaTop" fmla="*/ 0 h 210960"/>
                  <a:gd name="textAreaBottom" fmla="*/ 211320 h 21096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0880"/>
                <a:ext cx="352080" cy="107280"/>
              </a:xfrm>
              <a:custGeom>
                <a:avLst/>
                <a:gdLst>
                  <a:gd name="textAreaLeft" fmla="*/ 0 w 352080"/>
                  <a:gd name="textAreaRight" fmla="*/ 352440 w 352080"/>
                  <a:gd name="textAreaTop" fmla="*/ 0 h 107280"/>
                  <a:gd name="textAreaBottom" fmla="*/ 107640 h 10728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gd name="textAreaLeft" fmla="*/ 0 w 206640"/>
                  <a:gd name="textAreaRight" fmla="*/ 207000 w 206640"/>
                  <a:gd name="textAreaTop" fmla="*/ 0 h 297720"/>
                  <a:gd name="textAreaBottom" fmla="*/ 298080 h 297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gd name="textAreaLeft" fmla="*/ 0 w 353880"/>
                  <a:gd name="textAreaRight" fmla="*/ 354240 w 353880"/>
                  <a:gd name="textAreaTop" fmla="*/ 0 h 247320"/>
                  <a:gd name="textAreaBottom" fmla="*/ 247680 h 24732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gd name="textAreaLeft" fmla="*/ 0 w 370080"/>
                  <a:gd name="textAreaRight" fmla="*/ 370440 w 370080"/>
                  <a:gd name="textAreaTop" fmla="*/ 0 h 126000"/>
                  <a:gd name="textAreaBottom" fmla="*/ 126360 h 126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gd name="textAreaLeft" fmla="*/ 0 w 173160"/>
                  <a:gd name="textAreaRight" fmla="*/ 173520 w 173160"/>
                  <a:gd name="textAreaTop" fmla="*/ 0 h 218520"/>
                  <a:gd name="textAreaBottom" fmla="*/ 218880 h 2185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gd name="textAreaLeft" fmla="*/ 0 w 296280"/>
                  <a:gd name="textAreaRight" fmla="*/ 296640 w 296280"/>
                  <a:gd name="textAreaTop" fmla="*/ 0 h 181440"/>
                  <a:gd name="textAreaBottom" fmla="*/ 181800 h 1814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gd name="textAreaLeft" fmla="*/ 0 w 309960"/>
                  <a:gd name="textAreaRight" fmla="*/ 310320 w 309960"/>
                  <a:gd name="textAreaTop" fmla="*/ 0 h 92160"/>
                  <a:gd name="textAreaBottom" fmla="*/ 92520 h 9216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gd name="textAreaLeft" fmla="*/ 0 w 1109520"/>
                <a:gd name="textAreaRight" fmla="*/ 1109880 w 1109520"/>
                <a:gd name="textAreaTop" fmla="*/ 0 h 1199880"/>
                <a:gd name="textAreaBottom" fmla="*/ 1200240 h 1199880"/>
              </a:gdLst>
              <a:ahLst/>
              <a:rect l="textAreaLeft" t="textAreaTop" r="textAreaRight" b="textAreaBottom"/>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gd name="textAreaLeft" fmla="*/ 0 w 209520"/>
                <a:gd name="textAreaRight" fmla="*/ 209880 w 209520"/>
                <a:gd name="textAreaTop" fmla="*/ 0 h 264960"/>
                <a:gd name="textAreaBottom" fmla="*/ 265320 h 2649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gd name="textAreaLeft" fmla="*/ 0 w 104760"/>
                <a:gd name="textAreaRight" fmla="*/ 105120 w 104760"/>
                <a:gd name="textAreaTop" fmla="*/ 0 h 68040"/>
                <a:gd name="textAreaBottom" fmla="*/ 68400 h 6804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600" bIns="2160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gd name="textAreaLeft" fmla="*/ 0 w 187200"/>
                <a:gd name="textAreaRight" fmla="*/ 187560 w 187200"/>
                <a:gd name="textAreaTop" fmla="*/ 0 h 331920"/>
                <a:gd name="textAreaBottom" fmla="*/ 332280 h 331920"/>
              </a:gdLst>
              <a:ahLst/>
              <a:rect l="textAreaLeft" t="textAreaTop" r="textAreaRight" b="textAreaBottom"/>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gd name="textAreaLeft" fmla="*/ 0 w 74520"/>
                <a:gd name="textAreaRight" fmla="*/ 74880 w 74520"/>
                <a:gd name="textAreaTop" fmla="*/ 0 h 136440"/>
                <a:gd name="textAreaBottom" fmla="*/ 136800 h 136440"/>
              </a:gdLst>
              <a:ahLst/>
              <a:rect l="textAreaLeft" t="textAreaTop" r="textAreaRight" b="textAreaBottom"/>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gd name="textAreaLeft" fmla="*/ 0 w 789120"/>
                <a:gd name="textAreaRight" fmla="*/ 789480 w 789120"/>
                <a:gd name="textAreaTop" fmla="*/ 0 h 1174680"/>
                <a:gd name="textAreaBottom" fmla="*/ 1175040 h 1174680"/>
              </a:gdLst>
              <a:ahLst/>
              <a:rect l="textAreaLeft" t="textAreaTop" r="textAreaRight" b="textAreaBottom"/>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gd name="textAreaLeft" fmla="*/ 0 w 546120"/>
                <a:gd name="textAreaRight" fmla="*/ 546480 w 546120"/>
                <a:gd name="textAreaTop" fmla="*/ 0 h 388800"/>
                <a:gd name="textAreaBottom" fmla="*/ 389160 h 3888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gd name="textAreaLeft" fmla="*/ 0 w 265320"/>
                <a:gd name="textAreaRight" fmla="*/ 265680 w 265320"/>
                <a:gd name="textAreaTop" fmla="*/ 0 h 182520"/>
                <a:gd name="textAreaBottom" fmla="*/ 182880 h 1825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gd name="textAreaLeft" fmla="*/ 0 w 233280"/>
                <a:gd name="textAreaRight" fmla="*/ 233640 w 233280"/>
                <a:gd name="textAreaTop" fmla="*/ 0 h 254160"/>
                <a:gd name="textAreaBottom" fmla="*/ 254520 h 25416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gd name="textAreaLeft" fmla="*/ 0 w 98280"/>
                <a:gd name="textAreaRight" fmla="*/ 98640 w 98280"/>
                <a:gd name="textAreaTop" fmla="*/ 0 h 154080"/>
                <a:gd name="textAreaBottom" fmla="*/ 154440 h 15408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gd name="textAreaLeft" fmla="*/ 0 w 114120"/>
                <a:gd name="textAreaRight" fmla="*/ 114480 w 114120"/>
                <a:gd name="textAreaTop" fmla="*/ 0 h 65160"/>
                <a:gd name="textAreaBottom" fmla="*/ 65520 h 651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720" bIns="1872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gd name="textAreaLeft" fmla="*/ 0 w 571680"/>
                <a:gd name="textAreaRight" fmla="*/ 572040 w 571680"/>
                <a:gd name="textAreaTop" fmla="*/ 0 h 1031760"/>
                <a:gd name="textAreaBottom" fmla="*/ 1032120 h 1031760"/>
              </a:gdLst>
              <a:ahLst/>
              <a:rect l="textAreaLeft" t="textAreaTop" r="textAreaRight" b="textAreaBottom"/>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gd name="textAreaLeft" fmla="*/ 0 w 1276200"/>
                <a:gd name="textAreaRight" fmla="*/ 1276560 w 1276200"/>
                <a:gd name="textAreaTop" fmla="*/ 0 h 1089000"/>
                <a:gd name="textAreaBottom" fmla="*/ 1089000 h 108900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57E6-422F-44B9-8DD0-BFC745637919}" type="slidenum">
              <a:rPr b="0" lang="ru-RU"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0400" cy="6858000"/>
            <a:chOff x="-20160" y="0"/>
            <a:chExt cx="9050400" cy="6858000"/>
          </a:xfrm>
        </p:grpSpPr>
        <p:grpSp>
          <p:nvGrpSpPr>
            <p:cNvPr id="85" name="Group 3"/>
            <p:cNvGrpSpPr/>
            <p:nvPr/>
          </p:nvGrpSpPr>
          <p:grpSpPr>
            <a:xfrm>
              <a:off x="5407560" y="63000"/>
              <a:ext cx="3622680" cy="6129000"/>
              <a:chOff x="5407560" y="63000"/>
              <a:chExt cx="3622680" cy="6129000"/>
            </a:xfrm>
          </p:grpSpPr>
          <p:sp>
            <p:nvSpPr>
              <p:cNvPr id="86" name="Freeform 4"/>
              <p:cNvSpPr/>
              <p:nvPr/>
            </p:nvSpPr>
            <p:spPr>
              <a:xfrm flipV="1" rot="11970000">
                <a:off x="6581160" y="348120"/>
                <a:ext cx="2116440" cy="2356560"/>
              </a:xfrm>
              <a:custGeom>
                <a:avLst/>
                <a:gdLst>
                  <a:gd name="textAreaLeft" fmla="*/ 0 w 2116440"/>
                  <a:gd name="textAreaRight" fmla="*/ 2116800 w 2116440"/>
                  <a:gd name="textAreaTop" fmla="*/ 360 h 2356560"/>
                  <a:gd name="textAreaBottom" fmla="*/ 2357280 h 2356560"/>
                </a:gdLst>
                <a:ahLst/>
                <a:rect l="textAreaLeft" t="textAreaTop" r="textAreaRight" b="textAreaBottom"/>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1400" y="1959840"/>
                <a:ext cx="906480" cy="842760"/>
              </a:xfrm>
              <a:custGeom>
                <a:avLst/>
                <a:gdLst>
                  <a:gd name="textAreaLeft" fmla="*/ 0 w 906480"/>
                  <a:gd name="textAreaRight" fmla="*/ 906840 w 906480"/>
                  <a:gd name="textAreaTop" fmla="*/ -360 h 842760"/>
                  <a:gd name="textAreaBottom" fmla="*/ 842760 h 84276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5600" y="2592360"/>
                <a:ext cx="439560" cy="394920"/>
              </a:xfrm>
              <a:custGeom>
                <a:avLst/>
                <a:gdLst>
                  <a:gd name="textAreaLeft" fmla="*/ 0 w 439560"/>
                  <a:gd name="textAreaRight" fmla="*/ 439920 w 439560"/>
                  <a:gd name="textAreaTop" fmla="*/ -360 h 394920"/>
                  <a:gd name="textAreaBottom" fmla="*/ 394920 h 39492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1480" y="674280"/>
                <a:ext cx="388800" cy="550800"/>
              </a:xfrm>
              <a:custGeom>
                <a:avLst/>
                <a:gdLst>
                  <a:gd name="textAreaLeft" fmla="*/ 0 w 388800"/>
                  <a:gd name="textAreaRight" fmla="*/ 389160 w 388800"/>
                  <a:gd name="textAreaTop" fmla="*/ 360 h 550800"/>
                  <a:gd name="textAreaBottom" fmla="*/ 551520 h 550800"/>
                </a:gdLst>
                <a:ahLst/>
                <a:rect l="textAreaLeft" t="textAreaTop" r="textAreaRight" b="textAreaBottom"/>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4280" y="2645280"/>
                <a:ext cx="163440" cy="331560"/>
              </a:xfrm>
              <a:custGeom>
                <a:avLst/>
                <a:gdLst>
                  <a:gd name="textAreaLeft" fmla="*/ 0 w 163440"/>
                  <a:gd name="textAreaRight" fmla="*/ 163800 w 163440"/>
                  <a:gd name="textAreaTop" fmla="*/ 0 h 331560"/>
                  <a:gd name="textAreaBottom" fmla="*/ 331560 h 33156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240" y="1243080"/>
                <a:ext cx="190800" cy="142560"/>
              </a:xfrm>
              <a:custGeom>
                <a:avLst/>
                <a:gdLst>
                  <a:gd name="textAreaLeft" fmla="*/ 0 w 190800"/>
                  <a:gd name="textAreaRight" fmla="*/ 191160 w 190800"/>
                  <a:gd name="textAreaTop" fmla="*/ 360 h 142560"/>
                  <a:gd name="textAreaBottom" fmla="*/ 143280 h 142560"/>
                </a:gdLst>
                <a:ahLst/>
                <a:rect l="textAreaLeft" t="textAreaTop" r="textAreaRight" b="textAreaBottom"/>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400"/>
                <a:ext cx="523800" cy="3267720"/>
              </a:xfrm>
              <a:custGeom>
                <a:avLst/>
                <a:gdLst>
                  <a:gd name="textAreaLeft" fmla="*/ 0 w 523800"/>
                  <a:gd name="textAreaRight" fmla="*/ 524160 w 523800"/>
                  <a:gd name="textAreaTop" fmla="*/ -360 h 3267720"/>
                  <a:gd name="textAreaBottom" fmla="*/ 3267720 h 326772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custGeom>
              <a:avLst/>
              <a:gdLst>
                <a:gd name="textAreaLeft" fmla="*/ -360 w 512280"/>
                <a:gd name="textAreaRight" fmla="*/ 512280 w 512280"/>
                <a:gd name="textAreaTop" fmla="*/ 0 h 1030320"/>
                <a:gd name="textAreaBottom" fmla="*/ 1030680 h 1030320"/>
              </a:gdLst>
              <a:ahLst/>
              <a:rect l="textAreaLeft" t="textAreaTop" r="textAreaRight" b="textAreaBottom"/>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400" y="2000160"/>
              <a:ext cx="1998360" cy="2432160"/>
            </a:xfrm>
            <a:custGeom>
              <a:avLst/>
              <a:gdLst>
                <a:gd name="textAreaLeft" fmla="*/ 0 w 1998360"/>
                <a:gd name="textAreaRight" fmla="*/ 1998720 w 1998360"/>
                <a:gd name="textAreaTop" fmla="*/ 0 h 2432160"/>
                <a:gd name="textAreaBottom" fmla="*/ 2432520 h 2432160"/>
              </a:gdLst>
              <a:ahLst/>
              <a:rect l="textAreaLeft" t="textAreaTop" r="textAreaRight" b="textAreaBottom"/>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160" cy="728640"/>
            </a:xfrm>
            <a:custGeom>
              <a:avLst/>
              <a:gdLst>
                <a:gd name="textAreaLeft" fmla="*/ 0 w 1271160"/>
                <a:gd name="textAreaRight" fmla="*/ 1271520 w 1271160"/>
                <a:gd name="textAreaTop" fmla="*/ 0 h 728640"/>
                <a:gd name="textAreaBottom" fmla="*/ 729000 h 728640"/>
              </a:gdLst>
              <a:ahLst/>
              <a:rect l="textAreaLeft" t="textAreaTop" r="textAreaRight" b="textAreaBottom"/>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custGeom>
              <a:avLst/>
              <a:gdLst>
                <a:gd name="textAreaLeft" fmla="*/ 360 w 561600"/>
                <a:gd name="textAreaRight" fmla="*/ 562320 w 561600"/>
                <a:gd name="textAreaTop" fmla="*/ 0 h 736560"/>
                <a:gd name="textAreaBottom" fmla="*/ 736920 h 736560"/>
              </a:gdLst>
              <a:ahLst/>
              <a:rect l="textAreaLeft" t="textAreaTop" r="textAreaRight" b="textAreaBottom"/>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custGeom>
              <a:avLst/>
              <a:gdLst>
                <a:gd name="textAreaLeft" fmla="*/ -360 w 137880"/>
                <a:gd name="textAreaRight" fmla="*/ 137880 w 137880"/>
                <a:gd name="textAreaTop" fmla="*/ 0 h 434880"/>
                <a:gd name="textAreaBottom" fmla="*/ 435240 h 434880"/>
              </a:gdLst>
              <a:ahLst/>
              <a:rect l="textAreaLeft" t="textAreaTop" r="textAreaRight" b="textAreaBottom"/>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8920" y="5195880"/>
              <a:ext cx="1758600" cy="1662120"/>
            </a:xfrm>
            <a:custGeom>
              <a:avLst/>
              <a:gdLst>
                <a:gd name="textAreaLeft" fmla="*/ 0 w 1758600"/>
                <a:gd name="textAreaRight" fmla="*/ 1758960 w 1758600"/>
                <a:gd name="textAreaTop" fmla="*/ 0 h 1662120"/>
                <a:gd name="textAreaBottom" fmla="*/ 1662480 h 1662120"/>
              </a:gdLst>
              <a:ahLst/>
              <a:rect l="textAreaLeft" t="textAreaTop" r="textAreaRight" b="textAreaBottom"/>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custGeom>
                <a:avLst/>
                <a:gdLst>
                  <a:gd name="textAreaLeft" fmla="*/ 0 w 285840"/>
                  <a:gd name="textAreaRight" fmla="*/ 286200 w 285840"/>
                  <a:gd name="textAreaTop" fmla="*/ 0 h 378720"/>
                  <a:gd name="textAreaBottom" fmla="*/ 379080 h 37872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custGeom>
                <a:avLst/>
                <a:gdLst>
                  <a:gd name="textAreaLeft" fmla="*/ 0 w 488880"/>
                  <a:gd name="textAreaRight" fmla="*/ 489240 w 488880"/>
                  <a:gd name="textAreaTop" fmla="*/ 0 h 314280"/>
                  <a:gd name="textAreaBottom" fmla="*/ 314640 h 31428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custGeom>
                <a:avLst/>
                <a:gdLst>
                  <a:gd name="textAreaLeft" fmla="*/ 0 w 511200"/>
                  <a:gd name="textAreaRight" fmla="*/ 511560 w 511200"/>
                  <a:gd name="textAreaTop" fmla="*/ 0 h 160200"/>
                  <a:gd name="textAreaBottom" fmla="*/ 160560 h 1602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53800" y="297720"/>
              <a:ext cx="891360" cy="829440"/>
              <a:chOff x="5653800" y="297720"/>
              <a:chExt cx="891360" cy="829440"/>
            </a:xfrm>
          </p:grpSpPr>
          <p:sp>
            <p:nvSpPr>
              <p:cNvPr id="104" name="Freeform 22"/>
              <p:cNvSpPr/>
              <p:nvPr/>
            </p:nvSpPr>
            <p:spPr>
              <a:xfrm rot="14908200">
                <a:off x="5765400" y="796320"/>
                <a:ext cx="179280" cy="361800"/>
              </a:xfrm>
              <a:custGeom>
                <a:avLst/>
                <a:gdLst>
                  <a:gd name="textAreaLeft" fmla="*/ 0 w 179280"/>
                  <a:gd name="textAreaRight" fmla="*/ 179640 w 179280"/>
                  <a:gd name="textAreaTop" fmla="*/ 0 h 361800"/>
                  <a:gd name="textAreaBottom" fmla="*/ 362160 h 36180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14280" y="476640"/>
                <a:ext cx="306360" cy="300600"/>
              </a:xfrm>
              <a:custGeom>
                <a:avLst/>
                <a:gdLst>
                  <a:gd name="textAreaLeft" fmla="*/ 0 w 306360"/>
                  <a:gd name="textAreaRight" fmla="*/ 306720 w 306360"/>
                  <a:gd name="textAreaTop" fmla="*/ 0 h 300600"/>
                  <a:gd name="textAreaBottom" fmla="*/ 300960 h 30060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55720" y="397440"/>
                <a:ext cx="319320" cy="153000"/>
              </a:xfrm>
              <a:custGeom>
                <a:avLst/>
                <a:gdLst>
                  <a:gd name="textAreaLeft" fmla="*/ 0 w 319320"/>
                  <a:gd name="textAreaRight" fmla="*/ 319680 w 319320"/>
                  <a:gd name="textAreaTop" fmla="*/ 0 h 153000"/>
                  <a:gd name="textAreaBottom" fmla="*/ 153360 h 15300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61200" y="5253480"/>
              <a:ext cx="1062360" cy="833400"/>
              <a:chOff x="961200" y="5253480"/>
              <a:chExt cx="1062360" cy="833400"/>
            </a:xfrm>
          </p:grpSpPr>
          <p:sp>
            <p:nvSpPr>
              <p:cNvPr id="108" name="Freeform 26"/>
              <p:cNvSpPr/>
              <p:nvPr/>
            </p:nvSpPr>
            <p:spPr>
              <a:xfrm rot="8524800">
                <a:off x="1706400" y="5520600"/>
                <a:ext cx="250920" cy="301680"/>
              </a:xfrm>
              <a:custGeom>
                <a:avLst/>
                <a:gdLst>
                  <a:gd name="textAreaLeft" fmla="*/ 0 w 250920"/>
                  <a:gd name="textAreaRight" fmla="*/ 251280 w 250920"/>
                  <a:gd name="textAreaTop" fmla="*/ 0 h 301680"/>
                  <a:gd name="textAreaBottom" fmla="*/ 302040 h 30168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8000" y="5730840"/>
                <a:ext cx="429480" cy="250560"/>
              </a:xfrm>
              <a:custGeom>
                <a:avLst/>
                <a:gdLst>
                  <a:gd name="textAreaLeft" fmla="*/ 0 w 429480"/>
                  <a:gd name="textAreaRight" fmla="*/ 429840 w 429480"/>
                  <a:gd name="textAreaTop" fmla="*/ 0 h 250560"/>
                  <a:gd name="textAreaBottom" fmla="*/ 250920 h 25056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52560" y="5377680"/>
                <a:ext cx="448920" cy="127440"/>
              </a:xfrm>
              <a:custGeom>
                <a:avLst/>
                <a:gdLst>
                  <a:gd name="textAreaLeft" fmla="*/ 0 w 448920"/>
                  <a:gd name="textAreaRight" fmla="*/ 449280 w 448920"/>
                  <a:gd name="textAreaTop" fmla="*/ 0 h 127440"/>
                  <a:gd name="textAreaBottom" fmla="*/ 127800 h 12744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22760" y="594720"/>
                <a:ext cx="608400" cy="440640"/>
              </a:xfrm>
              <a:custGeom>
                <a:avLst/>
                <a:gdLst>
                  <a:gd name="textAreaLeft" fmla="*/ 360 w 608400"/>
                  <a:gd name="textAreaRight" fmla="*/ 609120 w 60840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78640" y="1108440"/>
                <a:ext cx="636120" cy="223920"/>
              </a:xfrm>
              <a:custGeom>
                <a:avLst/>
                <a:gdLst>
                  <a:gd name="textAreaLeft" fmla="*/ -360 w 636120"/>
                  <a:gd name="textAreaRight" fmla="*/ 636120 w 636120"/>
                  <a:gd name="textAreaTop" fmla="*/ 0 h 223920"/>
                  <a:gd name="textAreaBottom" fmla="*/ 224280 h 2239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custGeom>
                <a:avLst/>
                <a:gdLst>
                  <a:gd name="textAreaLeft" fmla="*/ -360 w 355320"/>
                  <a:gd name="textAreaRight" fmla="*/ 355320 w 355320"/>
                  <a:gd name="textAreaTop" fmla="*/ 0 h 530640"/>
                  <a:gd name="textAreaBottom" fmla="*/ 531000 h 530640"/>
                </a:gdLst>
                <a:ahLst/>
                <a:rect l="textAreaLeft" t="textAreaTop" r="textAreaRight" b="textAreaBottom"/>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882920" y="4455360"/>
                <a:ext cx="608400" cy="440640"/>
              </a:xfrm>
              <a:custGeom>
                <a:avLst/>
                <a:gdLst>
                  <a:gd name="textAreaLeft" fmla="*/ 360 w 608400"/>
                  <a:gd name="textAreaRight" fmla="*/ 609120 w 608400"/>
                  <a:gd name="textAreaTop" fmla="*/ 0 h 440640"/>
                  <a:gd name="textAreaBottom" fmla="*/ 441000 h 440640"/>
                </a:gdLst>
                <a:ahLst/>
                <a:rect l="textAreaLeft" t="textAreaTop" r="textAreaRight" b="textAreaBottom"/>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75840" y="3781440"/>
                <a:ext cx="636120" cy="223920"/>
              </a:xfrm>
              <a:custGeom>
                <a:avLst/>
                <a:gdLst>
                  <a:gd name="textAreaLeft" fmla="*/ -360 w 636120"/>
                  <a:gd name="textAreaRight" fmla="*/ 636120 w 636120"/>
                  <a:gd name="textAreaTop" fmla="*/ 0 h 223920"/>
                  <a:gd name="textAreaBottom" fmla="*/ 224280 h 223920"/>
                </a:gdLst>
                <a:ahLst/>
                <a:rect l="textAreaLeft" t="textAreaTop" r="textAreaRight" b="textAreaBottom"/>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1760" y="3240"/>
              <a:ext cx="136800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custGeom>
              <a:avLst/>
              <a:gdLst>
                <a:gd name="textAreaLeft" fmla="*/ 0 w 1080720"/>
                <a:gd name="textAreaRight" fmla="*/ 1081080 w 1080720"/>
                <a:gd name="textAreaTop" fmla="*/ -360 h 941400"/>
                <a:gd name="textAreaBottom" fmla="*/ 941400 h 941400"/>
              </a:gdLst>
              <a:ahLst/>
              <a:rect l="textAreaLeft" t="textAreaTop" r="textAreaRight" b="textAreaBottom"/>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custGeom>
              <a:avLst/>
              <a:gdLst>
                <a:gd name="textAreaLeft" fmla="*/ 0 w 523440"/>
                <a:gd name="textAreaRight" fmla="*/ 523800 w 523440"/>
                <a:gd name="textAreaTop" fmla="*/ -360 h 441000"/>
                <a:gd name="textAreaBottom" fmla="*/ 441000 h 441000"/>
              </a:gdLst>
              <a:ahLst/>
              <a:rect l="textAreaLeft" t="textAreaTop" r="textAreaRight" b="textAreaBottom"/>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custGeom>
              <a:avLst/>
              <a:gdLst>
                <a:gd name="textAreaLeft" fmla="*/ 0 w 195120"/>
                <a:gd name="textAreaRight" fmla="*/ 195480 w 195120"/>
                <a:gd name="textAreaTop" fmla="*/ -360 h 370440"/>
                <a:gd name="textAreaBottom" fmla="*/ 370440 h 370440"/>
              </a:gdLst>
              <a:ahLst/>
              <a:rect l="textAreaLeft" t="textAreaTop" r="textAreaRight" b="textAreaBottom"/>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120" y="0"/>
              <a:ext cx="196560" cy="192240"/>
            </a:xfrm>
            <a:custGeom>
              <a:avLst/>
              <a:gdLst>
                <a:gd name="textAreaLeft" fmla="*/ 0 w 196560"/>
                <a:gd name="textAreaRight" fmla="*/ 196920 w 196560"/>
                <a:gd name="textAreaTop" fmla="*/ 0 h 192240"/>
                <a:gd name="textAreaBottom" fmla="*/ 192600 h 192240"/>
              </a:gdLst>
              <a:ahLst/>
              <a:rect l="textAreaLeft" t="textAreaTop" r="textAreaRight" b="textAreaBottom"/>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custGeom>
              <a:avLst/>
              <a:gdLst>
                <a:gd name="textAreaLeft" fmla="*/ 0 w 623520"/>
                <a:gd name="textAreaRight" fmla="*/ 623880 w 623520"/>
                <a:gd name="textAreaTop" fmla="*/ -360 h 3651480"/>
                <a:gd name="textAreaBottom" fmla="*/ 3651480 h 3651480"/>
              </a:gdLst>
              <a:ahLst/>
              <a:rect l="textAreaLeft" t="textAreaTop" r="textAreaRight" b="textAreaBottom"/>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6880" cy="209520"/>
            </a:xfrm>
            <a:custGeom>
              <a:avLst/>
              <a:gdLst>
                <a:gd name="textAreaLeft" fmla="*/ 0 w 56880"/>
                <a:gd name="textAreaRight" fmla="*/ 57240 w 56880"/>
                <a:gd name="textAreaTop" fmla="*/ 0 h 209520"/>
                <a:gd name="textAreaBottom" fmla="*/ 209880 h 209520"/>
              </a:gdLst>
              <a:ahLst/>
              <a:rect l="textAreaLeft" t="textAreaTop" r="textAreaRight" b="textAreaBottom"/>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9CCC-B878-43E2-A16D-3D8FF84E80FE}" type="slidenum">
              <a:rPr b="0" lang="ru-RU"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Picture 2" descr=""/>
          <p:cNvPicPr/>
          <p:nvPr/>
        </p:nvPicPr>
        <p:blipFill>
          <a:blip r:embed="rId2"/>
          <a:stretch/>
        </p:blipFill>
        <p:spPr>
          <a:xfrm>
            <a:off x="0" y="0"/>
            <a:ext cx="9144000" cy="6858000"/>
          </a:xfrm>
          <a:prstGeom prst="rect">
            <a:avLst/>
          </a:prstGeom>
          <a:ln w="0">
            <a:noFill/>
          </a:ln>
        </p:spPr>
      </p:pic>
      <p:sp>
        <p:nvSpPr>
          <p:cNvPr id="168" name="WordArt 16"/>
          <p:cNvSpPr txBox="1"/>
          <p:nvPr/>
        </p:nvSpPr>
        <p:spPr>
          <a:xfrm>
            <a:off x="1187280" y="1928880"/>
            <a:ext cx="7056720" cy="20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rPr>
              <a:t>Тақырыбы: О.Әубәкіровтің </a:t>
            </a:r>
            <a:endPar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rPr>
              <a:t>сықақ өлеңдерінің</a:t>
            </a:r>
            <a:endPar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rPr>
              <a:t> </a:t>
            </a:r>
            <a:r>
              <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rPr>
              <a:t>тәрбиелік мәні</a:t>
            </a:r>
            <a:endPar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ea typeface="Times New Roman"/>
            </a:endParaRPr>
          </a:p>
        </p:txBody>
      </p:sp>
      <p:sp>
        <p:nvSpPr>
          <p:cNvPr id="169" name="WordArt 17"/>
          <p:cNvSpPr txBox="1"/>
          <p:nvPr/>
        </p:nvSpPr>
        <p:spPr>
          <a:xfrm>
            <a:off x="755640" y="4653000"/>
            <a:ext cx="705636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rPr>
              <a:t>8-сынып оқушылары Ахын Лекер</a:t>
            </a:r>
            <a:endPar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rPr>
              <a:t>Ундетбай Ақсұңқар</a:t>
            </a:r>
            <a:endPar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ea typeface="Times New Roman"/>
            </a:endParaRPr>
          </a:p>
        </p:txBody>
      </p:sp>
      <p:sp>
        <p:nvSpPr>
          <p:cNvPr id="170" name="WordArt 18"/>
          <p:cNvSpPr txBox="1"/>
          <p:nvPr/>
        </p:nvSpPr>
        <p:spPr>
          <a:xfrm>
            <a:off x="900000" y="5661000"/>
            <a:ext cx="59436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rPr>
              <a:t>Жетекшісі: Манав Алмагуль </a:t>
            </a:r>
            <a:endParaRPr b="1" lang="en-US" sz="4000" spc="1" strike="noStrike">
              <a:ln w="19080">
                <a:solidFill>
                  <a:srgbClr val="ff00ff"/>
                </a:solidFill>
                <a:miter/>
              </a:ln>
              <a:solidFill>
                <a:srgbClr val="00ffff"/>
              </a:solidFill>
              <a:effectLst>
                <a:outerShdw dist="17819" dir="2700000" blurRad="0" rotWithShape="0">
                  <a:srgbClr val="99000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6699ff"/>
            </a:gs>
          </a:gsLst>
          <a:path path="rect">
            <a:fillToRect l="50000" t="50000" r="50000" b="50000"/>
          </a:path>
        </a:gradFill>
      </p:bgPr>
    </p:bg>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0" y="0"/>
            <a:ext cx="9144000" cy="6858000"/>
          </a:xfrm>
          <a:prstGeom prst="rect">
            <a:avLst/>
          </a:prstGeom>
          <a:ln w="0">
            <a:noFill/>
          </a:ln>
        </p:spPr>
      </p:pic>
      <p:sp>
        <p:nvSpPr>
          <p:cNvPr id="255" name="WordArt 5"/>
          <p:cNvSpPr txBox="1"/>
          <p:nvPr/>
        </p:nvSpPr>
        <p:spPr>
          <a:xfrm>
            <a:off x="684360" y="2492280"/>
            <a:ext cx="7559640" cy="64944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Жағымпаздық, жемқорлық, </a:t>
            </a:r>
            <a:endParaRPr b="1"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парақорлық, тойымсыздық, азғыру</a:t>
            </a:r>
            <a:endParaRPr b="1"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
        <p:nvSpPr>
          <p:cNvPr id="256" name="AutoShape 6"/>
          <p:cNvSpPr/>
          <p:nvPr/>
        </p:nvSpPr>
        <p:spPr>
          <a:xfrm>
            <a:off x="250920" y="260280"/>
            <a:ext cx="2017440" cy="1440000"/>
          </a:xfrm>
          <a:custGeom>
            <a:avLst/>
            <a:gdLst>
              <a:gd name="textAreaLeft" fmla="*/ 460440 w 2017440"/>
              <a:gd name="textAreaRight" fmla="*/ 1557000 w 2017440"/>
              <a:gd name="textAreaTop" fmla="*/ 328680 h 1440000"/>
              <a:gd name="textAreaBottom" fmla="*/ 1111320 h 1440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6699"/>
                </a:solidFill>
                <a:latin typeface="Arial"/>
              </a:rPr>
              <a:t>Жағымпаздар</a:t>
            </a:r>
            <a:endParaRPr b="0" lang="en-US" sz="1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6699"/>
                </a:solidFill>
                <a:latin typeface="Arial"/>
              </a:rPr>
              <a:t> </a:t>
            </a:r>
            <a:r>
              <a:rPr b="1" lang="kk-KZ" sz="1200" spc="-1" strike="noStrike">
                <a:solidFill>
                  <a:srgbClr val="006699"/>
                </a:solidFill>
                <a:latin typeface="Arial"/>
              </a:rPr>
              <a:t>үшін </a:t>
            </a:r>
            <a:endParaRPr b="0" lang="en-US" sz="1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6699"/>
                </a:solidFill>
                <a:latin typeface="Arial"/>
              </a:rPr>
              <a:t>жаттығулар</a:t>
            </a:r>
            <a:endParaRPr b="0" lang="en-US" sz="1200" spc="-1" strike="noStrike">
              <a:solidFill>
                <a:srgbClr val="006699"/>
              </a:solidFill>
              <a:latin typeface="Verdana"/>
            </a:endParaRPr>
          </a:p>
        </p:txBody>
      </p:sp>
      <p:sp>
        <p:nvSpPr>
          <p:cNvPr id="257" name="AutoShape 7"/>
          <p:cNvSpPr/>
          <p:nvPr/>
        </p:nvSpPr>
        <p:spPr>
          <a:xfrm>
            <a:off x="6804000" y="1052640"/>
            <a:ext cx="2124000" cy="1368360"/>
          </a:xfrm>
          <a:custGeom>
            <a:avLst/>
            <a:gdLst>
              <a:gd name="textAreaLeft" fmla="*/ 484920 w 2124000"/>
              <a:gd name="textAreaRight" fmla="*/ 1639080 w 2124000"/>
              <a:gd name="textAreaTop" fmla="*/ 312120 h 1368360"/>
              <a:gd name="textAreaBottom" fmla="*/ 1056240 h 1368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Сөгіс берілсін</a:t>
            </a:r>
            <a:endParaRPr b="0" lang="en-US" sz="1800" spc="-1" strike="noStrike">
              <a:solidFill>
                <a:srgbClr val="006699"/>
              </a:solidFill>
              <a:latin typeface="Verdana"/>
            </a:endParaRPr>
          </a:p>
        </p:txBody>
      </p:sp>
      <p:sp>
        <p:nvSpPr>
          <p:cNvPr id="258" name="AutoShape 8"/>
          <p:cNvSpPr/>
          <p:nvPr/>
        </p:nvSpPr>
        <p:spPr>
          <a:xfrm>
            <a:off x="2411280" y="907920"/>
            <a:ext cx="1944720" cy="1484280"/>
          </a:xfrm>
          <a:custGeom>
            <a:avLst/>
            <a:gdLst>
              <a:gd name="textAreaLeft" fmla="*/ 443880 w 1944720"/>
              <a:gd name="textAreaRight" fmla="*/ 1500840 w 1944720"/>
              <a:gd name="textAreaTop" fmla="*/ 338760 h 1484280"/>
              <a:gd name="textAreaBottom" fmla="*/ 1145520 h 1484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Желке</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 </a:t>
            </a:r>
            <a:r>
              <a:rPr b="1" lang="kk-KZ" sz="1800" spc="-1" strike="noStrike">
                <a:solidFill>
                  <a:srgbClr val="006699"/>
                </a:solidFill>
                <a:latin typeface="Arial"/>
              </a:rPr>
              <a:t>туралы </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жыр</a:t>
            </a:r>
            <a:endParaRPr b="0" lang="en-US" sz="1800" spc="-1" strike="noStrike">
              <a:solidFill>
                <a:srgbClr val="006699"/>
              </a:solidFill>
              <a:latin typeface="Verdana"/>
            </a:endParaRPr>
          </a:p>
        </p:txBody>
      </p:sp>
      <p:sp>
        <p:nvSpPr>
          <p:cNvPr id="259" name="AutoShape 9"/>
          <p:cNvSpPr/>
          <p:nvPr/>
        </p:nvSpPr>
        <p:spPr>
          <a:xfrm>
            <a:off x="4643280" y="0"/>
            <a:ext cx="2089440" cy="1557360"/>
          </a:xfrm>
          <a:custGeom>
            <a:avLst/>
            <a:gdLst>
              <a:gd name="textAreaLeft" fmla="*/ 477000 w 2089440"/>
              <a:gd name="textAreaRight" fmla="*/ 1612440 w 2089440"/>
              <a:gd name="textAreaTop" fmla="*/ 355320 h 1557360"/>
              <a:gd name="textAreaBottom" fmla="*/ 1202040 h 1557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Ине мен жіп</a:t>
            </a:r>
            <a:endParaRPr b="0" lang="en-US" sz="1800" spc="-1" strike="noStrike">
              <a:solidFill>
                <a:srgbClr val="006699"/>
              </a:solidFill>
              <a:latin typeface="Verdana"/>
            </a:endParaRPr>
          </a:p>
        </p:txBody>
      </p:sp>
      <p:sp>
        <p:nvSpPr>
          <p:cNvPr id="260" name="AutoShape 10"/>
          <p:cNvSpPr/>
          <p:nvPr/>
        </p:nvSpPr>
        <p:spPr>
          <a:xfrm>
            <a:off x="3203640" y="3284640"/>
            <a:ext cx="1944720" cy="1484280"/>
          </a:xfrm>
          <a:custGeom>
            <a:avLst/>
            <a:gdLst>
              <a:gd name="textAreaLeft" fmla="*/ 443880 w 1944720"/>
              <a:gd name="textAreaRight" fmla="*/ 1500840 w 1944720"/>
              <a:gd name="textAreaTop" fmla="*/ 338760 h 1484280"/>
              <a:gd name="textAreaBottom" fmla="*/ 1145520 h 1484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Көлденең</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 </a:t>
            </a:r>
            <a:r>
              <a:rPr b="1" lang="kk-KZ" sz="1800" spc="-1" strike="noStrike">
                <a:solidFill>
                  <a:srgbClr val="006699"/>
                </a:solidFill>
                <a:latin typeface="Arial"/>
              </a:rPr>
              <a:t>табыс</a:t>
            </a:r>
            <a:endParaRPr b="0" lang="en-US" sz="1800" spc="-1" strike="noStrike">
              <a:solidFill>
                <a:srgbClr val="006699"/>
              </a:solidFill>
              <a:latin typeface="Verdana"/>
            </a:endParaRPr>
          </a:p>
        </p:txBody>
      </p:sp>
      <p:sp>
        <p:nvSpPr>
          <p:cNvPr id="261" name="AutoShape 11"/>
          <p:cNvSpPr/>
          <p:nvPr/>
        </p:nvSpPr>
        <p:spPr>
          <a:xfrm>
            <a:off x="468360" y="5084640"/>
            <a:ext cx="1944720" cy="1484280"/>
          </a:xfrm>
          <a:custGeom>
            <a:avLst/>
            <a:gdLst>
              <a:gd name="textAreaLeft" fmla="*/ 443880 w 1944720"/>
              <a:gd name="textAreaRight" fmla="*/ 1500840 w 1944720"/>
              <a:gd name="textAreaTop" fmla="*/ 338760 h 1484280"/>
              <a:gd name="textAreaBottom" fmla="*/ 1145520 h 1484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Емен есік</a:t>
            </a:r>
            <a:endParaRPr b="0" lang="en-US" sz="1800" spc="-1" strike="noStrike">
              <a:solidFill>
                <a:srgbClr val="006699"/>
              </a:solidFill>
              <a:latin typeface="Verdana"/>
            </a:endParaRPr>
          </a:p>
        </p:txBody>
      </p:sp>
      <p:sp>
        <p:nvSpPr>
          <p:cNvPr id="262" name="AutoShape 12"/>
          <p:cNvSpPr/>
          <p:nvPr/>
        </p:nvSpPr>
        <p:spPr>
          <a:xfrm>
            <a:off x="250920" y="3284640"/>
            <a:ext cx="2449440" cy="1484280"/>
          </a:xfrm>
          <a:custGeom>
            <a:avLst/>
            <a:gdLst>
              <a:gd name="textAreaLeft" fmla="*/ 559080 w 2449440"/>
              <a:gd name="textAreaRight" fmla="*/ 1890360 w 2449440"/>
              <a:gd name="textAreaTop" fmla="*/ 338760 h 1484280"/>
              <a:gd name="textAreaBottom" fmla="*/ 1145520 h 1484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Мені</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 </a:t>
            </a:r>
            <a:r>
              <a:rPr b="1" lang="kk-KZ" sz="1800" spc="-1" strike="noStrike">
                <a:solidFill>
                  <a:srgbClr val="006699"/>
                </a:solidFill>
                <a:latin typeface="Arial"/>
              </a:rPr>
              <a:t>көрсендер</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 </a:t>
            </a:r>
            <a:r>
              <a:rPr b="1" lang="kk-KZ" sz="1800" spc="-1" strike="noStrike">
                <a:solidFill>
                  <a:srgbClr val="006699"/>
                </a:solidFill>
                <a:latin typeface="Arial"/>
              </a:rPr>
              <a:t>қашыңдар</a:t>
            </a:r>
            <a:endParaRPr b="0" lang="en-US" sz="1800" spc="-1" strike="noStrike">
              <a:solidFill>
                <a:srgbClr val="006699"/>
              </a:solidFill>
              <a:latin typeface="Verdana"/>
            </a:endParaRPr>
          </a:p>
        </p:txBody>
      </p:sp>
      <p:sp>
        <p:nvSpPr>
          <p:cNvPr id="263" name="AutoShape 13"/>
          <p:cNvSpPr/>
          <p:nvPr/>
        </p:nvSpPr>
        <p:spPr>
          <a:xfrm>
            <a:off x="6227640" y="3213000"/>
            <a:ext cx="1944720" cy="1484280"/>
          </a:xfrm>
          <a:custGeom>
            <a:avLst/>
            <a:gdLst>
              <a:gd name="textAreaLeft" fmla="*/ 443880 w 1944720"/>
              <a:gd name="textAreaRight" fmla="*/ 1500840 w 1944720"/>
              <a:gd name="textAreaTop" fmla="*/ 338760 h 1484280"/>
              <a:gd name="textAreaBottom" fmla="*/ 1145520 h 1484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Мөрбасар</a:t>
            </a:r>
            <a:endParaRPr b="0" lang="en-US" sz="1800" spc="-1" strike="noStrike">
              <a:solidFill>
                <a:srgbClr val="006699"/>
              </a:solidFill>
              <a:latin typeface="Verdana"/>
            </a:endParaRPr>
          </a:p>
        </p:txBody>
      </p:sp>
      <p:sp>
        <p:nvSpPr>
          <p:cNvPr id="264" name="AutoShape 14"/>
          <p:cNvSpPr/>
          <p:nvPr/>
        </p:nvSpPr>
        <p:spPr>
          <a:xfrm>
            <a:off x="3276720" y="5084640"/>
            <a:ext cx="2374920" cy="1413000"/>
          </a:xfrm>
          <a:custGeom>
            <a:avLst/>
            <a:gdLst>
              <a:gd name="textAreaLeft" fmla="*/ 542160 w 2374920"/>
              <a:gd name="textAreaRight" fmla="*/ 1832760 w 2374920"/>
              <a:gd name="textAreaTop" fmla="*/ 322560 h 1413000"/>
              <a:gd name="textAreaBottom" fmla="*/ 1090440 h 1413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Шындықтың </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үйленуі</a:t>
            </a:r>
            <a:endParaRPr b="0" lang="en-US" sz="1800" spc="-1" strike="noStrike">
              <a:solidFill>
                <a:srgbClr val="006699"/>
              </a:solidFill>
              <a:latin typeface="Verdana"/>
            </a:endParaRPr>
          </a:p>
        </p:txBody>
      </p:sp>
      <p:sp>
        <p:nvSpPr>
          <p:cNvPr id="265" name="AutoShape 15"/>
          <p:cNvSpPr/>
          <p:nvPr/>
        </p:nvSpPr>
        <p:spPr>
          <a:xfrm>
            <a:off x="6443640" y="5013360"/>
            <a:ext cx="2160720" cy="1555560"/>
          </a:xfrm>
          <a:custGeom>
            <a:avLst/>
            <a:gdLst>
              <a:gd name="textAreaLeft" fmla="*/ 493200 w 2160720"/>
              <a:gd name="textAreaRight" fmla="*/ 1667520 w 2160720"/>
              <a:gd name="textAreaTop" fmla="*/ 354960 h 1555560"/>
              <a:gd name="textAreaBottom" fmla="*/ 1200600 h 1555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Арызқойдың</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 </a:t>
            </a:r>
            <a:r>
              <a:rPr b="1" lang="kk-KZ" sz="1800" spc="-1" strike="noStrike">
                <a:solidFill>
                  <a:srgbClr val="006699"/>
                </a:solidFill>
                <a:latin typeface="Arial"/>
              </a:rPr>
              <a:t>үстінен арыз</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18900000"/>
        </a:gradFill>
      </p:bgPr>
    </p:bg>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0" y="0"/>
            <a:ext cx="9144000" cy="6858000"/>
          </a:xfrm>
          <a:prstGeom prst="rect">
            <a:avLst/>
          </a:prstGeom>
          <a:ln w="0">
            <a:noFill/>
          </a:ln>
        </p:spPr>
      </p:pic>
      <p:sp>
        <p:nvSpPr>
          <p:cNvPr id="267" name="Rectangle 4"/>
          <p:cNvSpPr/>
          <p:nvPr/>
        </p:nvSpPr>
        <p:spPr>
          <a:xfrm>
            <a:off x="1189440" y="1000080"/>
            <a:ext cx="7104240" cy="546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Бастығың қанша топас болса да </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Содан өзіңді кем көру керек. </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Мұны үйрене алмасаң,</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Дәрігерге барып емделу керек.</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Бастығыңның жағдайын сұрауға дайын тұр.</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Кейісе жылауға дайын тұр. </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Жымиса күлуге дайын тұр,</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Қозғалса жүруге дайын тұр.</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Есінесе түшкіруге дайын тұр.</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Түшкіре қалса үшкіруге дайын тұр.</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Көзін жұмса өлуге дайын тұр.</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Өле қалса көмуге дайын тұр.</a:t>
            </a:r>
            <a:endParaRPr b="0" lang="en-US" sz="1800" spc="-1" strike="noStrike">
              <a:solidFill>
                <a:srgbClr val="006699"/>
              </a:solidFill>
              <a:latin typeface="Verdana"/>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Осының бәрін үйренсең бастығыңа жағып-ақ қаласың.</a:t>
            </a:r>
            <a:endParaRPr b="0" lang="en-US" sz="1800" spc="-1" strike="noStrike">
              <a:solidFill>
                <a:srgbClr val="006699"/>
              </a:solidFill>
              <a:latin typeface="Verdana"/>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                       </a:t>
            </a:r>
            <a:r>
              <a:rPr b="1" i="1" lang="kk-KZ" sz="1800" spc="-1" strike="noStrike">
                <a:solidFill>
                  <a:srgbClr val="ff0066"/>
                </a:solidFill>
                <a:latin typeface="Georgia"/>
              </a:rPr>
              <a:t>* * *</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Әй, дегенде түбінде </a:t>
            </a:r>
            <a:endParaRPr b="0" lang="en-US" sz="18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0066"/>
                </a:solidFill>
                <a:latin typeface="Georgia"/>
              </a:rPr>
              <a:t>Бәрібір ақымақ боласың</a:t>
            </a:r>
            <a:r>
              <a:rPr b="1" lang="kk-KZ" sz="1800" spc="-1" strike="noStrike">
                <a:solidFill>
                  <a:srgbClr val="ff0066"/>
                </a:solidFill>
                <a:latin typeface="Arial"/>
              </a:rPr>
              <a:t> </a:t>
            </a:r>
            <a:endParaRPr b="0" lang="en-US" sz="1800" spc="-1" strike="noStrike">
              <a:solidFill>
                <a:srgbClr val="006699"/>
              </a:solidFill>
              <a:latin typeface="Verdana"/>
            </a:endParaRPr>
          </a:p>
        </p:txBody>
      </p:sp>
      <p:sp>
        <p:nvSpPr>
          <p:cNvPr id="268" name="WordArt 6"/>
          <p:cNvSpPr txBox="1"/>
          <p:nvPr/>
        </p:nvSpPr>
        <p:spPr>
          <a:xfrm>
            <a:off x="1403280" y="404640"/>
            <a:ext cx="684072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ff"/>
                  </a:solidFill>
                  <a:miter/>
                </a:ln>
                <a:solidFill>
                  <a:srgbClr val="b2b2b2">
                    <a:alpha val="50000"/>
                  </a:srgbClr>
                </a:solidFill>
                <a:effectLst>
                  <a:outerShdw dist="40186" dir="1096358" blurRad="0" rotWithShape="0">
                    <a:srgbClr val="9999ff"/>
                  </a:outerShdw>
                </a:effectLst>
                <a:latin typeface="Arial"/>
              </a:rPr>
              <a:t>Жағымпаздар үшін жаттығу</a:t>
            </a:r>
            <a:endParaRPr b="0" lang="en-US" sz="2400" spc="1" strike="noStrike">
              <a:ln w="12600">
                <a:solidFill>
                  <a:srgbClr val="0000ff"/>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ff66ff"/>
            </a:gs>
          </a:gsLst>
          <a:lin ang="5400000"/>
        </a:gradFill>
      </p:bgPr>
    </p:bg>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0" y="0"/>
            <a:ext cx="9144000" cy="6858000"/>
          </a:xfrm>
          <a:prstGeom prst="rect">
            <a:avLst/>
          </a:prstGeom>
          <a:ln w="0">
            <a:noFill/>
          </a:ln>
        </p:spPr>
      </p:pic>
      <p:sp>
        <p:nvSpPr>
          <p:cNvPr id="270" name="WordArt 5"/>
          <p:cNvSpPr txBox="1"/>
          <p:nvPr/>
        </p:nvSpPr>
        <p:spPr>
          <a:xfrm>
            <a:off x="971640" y="2997360"/>
            <a:ext cx="7416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4d0808"/>
                    </a:gs>
                    <a:gs pos="100000">
                      <a:srgbClr val="4d0808"/>
                    </a:gs>
                  </a:gsLst>
                  <a:lin ang="18900000"/>
                </a:gradFill>
                <a:latin typeface="Times New Roman"/>
              </a:rPr>
              <a:t>Сауатсыздық, пәтуасыздық, топастық, теріс тәрбие</a:t>
            </a:r>
            <a:endParaRPr b="1" lang="en-US" sz="2000" spc="1" strike="noStrike">
              <a:ln w="9360">
                <a:solidFill>
                  <a:srgbClr val="000000"/>
                </a:solidFill>
                <a:miter/>
              </a:ln>
              <a:gradFill rotWithShape="0">
                <a:gsLst>
                  <a:gs pos="0">
                    <a:srgbClr val="4d0808"/>
                  </a:gs>
                  <a:gs pos="100000">
                    <a:srgbClr val="4d0808"/>
                  </a:gs>
                </a:gsLst>
                <a:lin ang="18900000"/>
              </a:gradFill>
              <a:latin typeface="Times New Roman"/>
              <a:ea typeface="Times New Roman"/>
            </a:endParaRPr>
          </a:p>
        </p:txBody>
      </p:sp>
      <p:sp>
        <p:nvSpPr>
          <p:cNvPr id="271" name="AutoShape 8"/>
          <p:cNvSpPr/>
          <p:nvPr/>
        </p:nvSpPr>
        <p:spPr>
          <a:xfrm>
            <a:off x="250920" y="5589720"/>
            <a:ext cx="3240000" cy="1081080"/>
          </a:xfrm>
          <a:custGeom>
            <a:avLst/>
            <a:gdLst>
              <a:gd name="textAreaLeft" fmla="*/ 739440 w 3240000"/>
              <a:gd name="textAreaRight" fmla="*/ 2500560 w 3240000"/>
              <a:gd name="textAreaTop" fmla="*/ 246600 h 1081080"/>
              <a:gd name="textAreaBottom" fmla="*/ 834480 h 1081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ff66cc"/>
              </a:gs>
              <a:gs pos="50000">
                <a:srgbClr val="ffffff"/>
              </a:gs>
              <a:gs pos="100000">
                <a:srgbClr val="ff66cc"/>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72" name="Text Box 9"/>
          <p:cNvSpPr/>
          <p:nvPr/>
        </p:nvSpPr>
        <p:spPr>
          <a:xfrm>
            <a:off x="971640" y="58770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Бос портфель</a:t>
            </a:r>
            <a:endParaRPr b="0" lang="en-US" sz="1800" spc="-1" strike="noStrike">
              <a:solidFill>
                <a:srgbClr val="006699"/>
              </a:solidFill>
              <a:latin typeface="Verdana"/>
            </a:endParaRPr>
          </a:p>
        </p:txBody>
      </p:sp>
      <p:sp>
        <p:nvSpPr>
          <p:cNvPr id="273" name="AutoShape 10"/>
          <p:cNvSpPr/>
          <p:nvPr/>
        </p:nvSpPr>
        <p:spPr>
          <a:xfrm>
            <a:off x="5076720" y="3933720"/>
            <a:ext cx="3313080" cy="1079640"/>
          </a:xfrm>
          <a:custGeom>
            <a:avLst/>
            <a:gdLst>
              <a:gd name="textAreaLeft" fmla="*/ 756360 w 3313080"/>
              <a:gd name="textAreaRight" fmla="*/ 2556720 w 3313080"/>
              <a:gd name="textAreaTop" fmla="*/ 246240 h 1079640"/>
              <a:gd name="textAreaBottom" fmla="*/ 833400 h 1079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blipFill rotWithShape="0">
            <a:blip r:embed="rId2"/>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Бөден жазған өлең</a:t>
            </a:r>
            <a:endParaRPr b="0" lang="en-US" sz="1800" spc="-1" strike="noStrike">
              <a:solidFill>
                <a:srgbClr val="006699"/>
              </a:solidFill>
              <a:latin typeface="Verdana"/>
            </a:endParaRPr>
          </a:p>
        </p:txBody>
      </p:sp>
      <p:sp>
        <p:nvSpPr>
          <p:cNvPr id="274" name="AutoShape 12"/>
          <p:cNvSpPr/>
          <p:nvPr/>
        </p:nvSpPr>
        <p:spPr>
          <a:xfrm>
            <a:off x="5580000" y="5560920"/>
            <a:ext cx="3313080" cy="1297080"/>
          </a:xfrm>
          <a:custGeom>
            <a:avLst/>
            <a:gdLst>
              <a:gd name="textAreaLeft" fmla="*/ 756360 w 3313080"/>
              <a:gd name="textAreaRight" fmla="*/ 2556720 w 3313080"/>
              <a:gd name="textAreaTop" fmla="*/ 295920 h 1297080"/>
              <a:gd name="textAreaBottom" fmla="*/ 1001160 h 1297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ff66cc"/>
              </a:gs>
              <a:gs pos="100000">
                <a:srgbClr val="ffff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Кей жігіттің тірлігі</a:t>
            </a:r>
            <a:endParaRPr b="0" lang="en-US" sz="1800" spc="-1" strike="noStrike">
              <a:solidFill>
                <a:srgbClr val="006699"/>
              </a:solidFill>
              <a:latin typeface="Verdana"/>
            </a:endParaRPr>
          </a:p>
        </p:txBody>
      </p:sp>
      <p:sp>
        <p:nvSpPr>
          <p:cNvPr id="275" name="AutoShape 13"/>
          <p:cNvSpPr/>
          <p:nvPr/>
        </p:nvSpPr>
        <p:spPr>
          <a:xfrm>
            <a:off x="4572000" y="1700280"/>
            <a:ext cx="3241800" cy="1297080"/>
          </a:xfrm>
          <a:custGeom>
            <a:avLst/>
            <a:gdLst>
              <a:gd name="textAreaLeft" fmla="*/ 739800 w 3241800"/>
              <a:gd name="textAreaRight" fmla="*/ 2502000 w 3241800"/>
              <a:gd name="textAreaTop" fmla="*/ 295920 h 1297080"/>
              <a:gd name="textAreaBottom" fmla="*/ 1001160 h 1297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ff66cc"/>
              </a:gs>
              <a:gs pos="100000">
                <a:srgbClr val="ffffff"/>
              </a:gs>
            </a:gsLst>
            <a:lin ang="27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Төрт амал</a:t>
            </a:r>
            <a:endParaRPr b="0" lang="en-US" sz="1800" spc="-1" strike="noStrike">
              <a:solidFill>
                <a:srgbClr val="006699"/>
              </a:solidFill>
              <a:latin typeface="Verdana"/>
            </a:endParaRPr>
          </a:p>
        </p:txBody>
      </p:sp>
      <p:sp>
        <p:nvSpPr>
          <p:cNvPr id="276" name="AutoShape 14"/>
          <p:cNvSpPr/>
          <p:nvPr/>
        </p:nvSpPr>
        <p:spPr>
          <a:xfrm>
            <a:off x="468360" y="1700280"/>
            <a:ext cx="3456000" cy="1297080"/>
          </a:xfrm>
          <a:custGeom>
            <a:avLst/>
            <a:gdLst>
              <a:gd name="textAreaLeft" fmla="*/ 788760 w 3456000"/>
              <a:gd name="textAreaRight" fmla="*/ 2667240 w 3456000"/>
              <a:gd name="textAreaTop" fmla="*/ 295920 h 1297080"/>
              <a:gd name="textAreaBottom" fmla="*/ 1001160 h 1297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ffffff"/>
              </a:gs>
              <a:gs pos="50000">
                <a:srgbClr val="ff66cc"/>
              </a:gs>
              <a:gs pos="100000">
                <a:srgbClr val="ffff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Қағаз бен сабаз</a:t>
            </a:r>
            <a:endParaRPr b="0" lang="en-US" sz="1800" spc="-1" strike="noStrike">
              <a:solidFill>
                <a:srgbClr val="006699"/>
              </a:solidFill>
              <a:latin typeface="Verdana"/>
            </a:endParaRPr>
          </a:p>
        </p:txBody>
      </p:sp>
      <p:sp>
        <p:nvSpPr>
          <p:cNvPr id="277" name="AutoShape 15"/>
          <p:cNvSpPr/>
          <p:nvPr/>
        </p:nvSpPr>
        <p:spPr>
          <a:xfrm>
            <a:off x="250920" y="189000"/>
            <a:ext cx="3313080" cy="1297080"/>
          </a:xfrm>
          <a:custGeom>
            <a:avLst/>
            <a:gdLst>
              <a:gd name="textAreaLeft" fmla="*/ 756360 w 3313080"/>
              <a:gd name="textAreaRight" fmla="*/ 2556720 w 3313080"/>
              <a:gd name="textAreaTop" fmla="*/ 295920 h 1297080"/>
              <a:gd name="textAreaBottom" fmla="*/ 1001160 h 1297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ffffff"/>
              </a:gs>
              <a:gs pos="50000">
                <a:srgbClr val="ff99cc"/>
              </a:gs>
              <a:gs pos="100000">
                <a:srgbClr val="ffff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Амандық</a:t>
            </a:r>
            <a:r>
              <a:rPr b="1" lang="kk-KZ" sz="1800" spc="-1" strike="noStrike">
                <a:solidFill>
                  <a:srgbClr val="ebf7ff"/>
                </a:solidFill>
                <a:latin typeface="Arial"/>
              </a:rPr>
              <a:t> </a:t>
            </a:r>
            <a:r>
              <a:rPr b="1" lang="kk-KZ" sz="1800" spc="-1" strike="noStrike">
                <a:solidFill>
                  <a:srgbClr val="006699"/>
                </a:solidFill>
                <a:latin typeface="Arial"/>
              </a:rPr>
              <a:t>хат</a:t>
            </a:r>
            <a:endParaRPr b="0" lang="en-US" sz="1800" spc="-1" strike="noStrike">
              <a:solidFill>
                <a:srgbClr val="006699"/>
              </a:solidFill>
              <a:latin typeface="Verdana"/>
            </a:endParaRPr>
          </a:p>
        </p:txBody>
      </p:sp>
      <p:sp>
        <p:nvSpPr>
          <p:cNvPr id="278" name="AutoShape 16"/>
          <p:cNvSpPr/>
          <p:nvPr/>
        </p:nvSpPr>
        <p:spPr>
          <a:xfrm>
            <a:off x="4643280" y="189000"/>
            <a:ext cx="3384720" cy="1297080"/>
          </a:xfrm>
          <a:custGeom>
            <a:avLst/>
            <a:gdLst>
              <a:gd name="textAreaLeft" fmla="*/ 772560 w 3384720"/>
              <a:gd name="textAreaRight" fmla="*/ 2612160 w 3384720"/>
              <a:gd name="textAreaTop" fmla="*/ 295920 h 1297080"/>
              <a:gd name="textAreaBottom" fmla="*/ 1001160 h 1297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ff66cc"/>
              </a:gs>
              <a:gs pos="100000">
                <a:srgbClr val="ffff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6699"/>
                </a:solidFill>
                <a:latin typeface="Arial"/>
              </a:rPr>
              <a:t>Түк түсінсем </a:t>
            </a: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6699"/>
                </a:solidFill>
                <a:latin typeface="Arial"/>
              </a:rPr>
              <a:t>бұйырмасын</a:t>
            </a:r>
            <a:endParaRPr b="0" lang="en-US" sz="1600" spc="-1" strike="noStrike">
              <a:solidFill>
                <a:srgbClr val="006699"/>
              </a:solidFill>
              <a:latin typeface="Verdana"/>
            </a:endParaRPr>
          </a:p>
        </p:txBody>
      </p:sp>
      <p:sp>
        <p:nvSpPr>
          <p:cNvPr id="279" name="AutoShape 30"/>
          <p:cNvSpPr/>
          <p:nvPr/>
        </p:nvSpPr>
        <p:spPr>
          <a:xfrm>
            <a:off x="539640" y="3716280"/>
            <a:ext cx="3456000" cy="1225440"/>
          </a:xfrm>
          <a:custGeom>
            <a:avLst/>
            <a:gdLst>
              <a:gd name="textAreaLeft" fmla="*/ 788760 w 3456000"/>
              <a:gd name="textAreaRight" fmla="*/ 2667240 w 3456000"/>
              <a:gd name="textAreaTop" fmla="*/ 279720 h 1225440"/>
              <a:gd name="textAreaBottom" fmla="*/ 945720 h 1225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gradFill rotWithShape="0">
            <a:gsLst>
              <a:gs pos="0">
                <a:srgbClr val="ffffff"/>
              </a:gs>
              <a:gs pos="50000">
                <a:srgbClr val="ff66cc"/>
              </a:gs>
              <a:gs pos="100000">
                <a:srgbClr val="ffff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Бытпырық </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Быламықов</a:t>
            </a:r>
            <a:endParaRPr b="0" lang="en-US" sz="1800" spc="-1" strike="noStrike">
              <a:solidFill>
                <a:srgbClr val="006699"/>
              </a:solidFill>
              <a:latin typeface="Verdana"/>
            </a:endParaRPr>
          </a:p>
        </p:txBody>
      </p:sp>
      <p:sp>
        <p:nvSpPr>
          <p:cNvPr id="280" name="AutoShape 31"/>
          <p:cNvSpPr/>
          <p:nvPr/>
        </p:nvSpPr>
        <p:spPr>
          <a:xfrm>
            <a:off x="2484360" y="4724280"/>
            <a:ext cx="3960720" cy="1008360"/>
          </a:xfrm>
          <a:custGeom>
            <a:avLst/>
            <a:gdLst>
              <a:gd name="textAreaLeft" fmla="*/ 903960 w 3960720"/>
              <a:gd name="textAreaRight" fmla="*/ 3056760 w 3960720"/>
              <a:gd name="textAreaTop" fmla="*/ 230040 h 1008360"/>
              <a:gd name="textAreaBottom" fmla="*/ 778320 h 1008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blipFill rotWithShape="0">
            <a:blip r:embed="rId3">
              <a:alphaModFix amt="87000"/>
            </a:blip>
            <a:srcRect/>
            <a:stretch/>
          </a:blip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81" name="Text Box 32"/>
          <p:cNvSpPr/>
          <p:nvPr/>
        </p:nvSpPr>
        <p:spPr>
          <a:xfrm>
            <a:off x="3203640" y="501336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Arial"/>
              </a:rPr>
              <a:t>Әкеге тартып ұл туар</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Picture 2" descr=""/>
          <p:cNvPicPr/>
          <p:nvPr/>
        </p:nvPicPr>
        <p:blipFill>
          <a:blip r:embed="rId2"/>
          <a:stretch/>
        </p:blipFill>
        <p:spPr>
          <a:xfrm>
            <a:off x="0" y="0"/>
            <a:ext cx="9144000" cy="6858000"/>
          </a:xfrm>
          <a:prstGeom prst="rect">
            <a:avLst/>
          </a:prstGeom>
          <a:ln w="0">
            <a:noFill/>
          </a:ln>
        </p:spPr>
      </p:pic>
      <p:sp>
        <p:nvSpPr>
          <p:cNvPr id="283" name="AutoShape 9"/>
          <p:cNvSpPr/>
          <p:nvPr/>
        </p:nvSpPr>
        <p:spPr>
          <a:xfrm>
            <a:off x="500040" y="1214280"/>
            <a:ext cx="3313080" cy="4824720"/>
          </a:xfrm>
          <a:custGeom>
            <a:avLst/>
            <a:gdLst>
              <a:gd name="textAreaLeft" fmla="*/ 161640 w 3313080"/>
              <a:gd name="textAreaRight" fmla="*/ 3151440 w 3313080"/>
              <a:gd name="textAreaTop" fmla="*/ 161640 h 4824720"/>
              <a:gd name="textAreaBottom" fmla="*/ 4663080 h 4824720"/>
            </a:gdLst>
            <a:ahLst/>
            <a:rect l="textAreaLeft" t="textAreaTop" r="textAreaRight" b="textAreaBottom"/>
            <a:pathLst>
              <a:path w="21600" h="31454">
                <a:moveTo>
                  <a:pt x="3600" y="0"/>
                </a:moveTo>
                <a:arcTo wR="3600" hR="3600" stAng="16200000" swAng="-5400000"/>
                <a:lnTo>
                  <a:pt x="0" y="27854"/>
                </a:lnTo>
                <a:arcTo wR="3600" hR="3600" stAng="10800000" swAng="-5400000"/>
                <a:lnTo>
                  <a:pt x="18000" y="31454"/>
                </a:lnTo>
                <a:arcTo wR="3600" hR="3600" stAng="5400000" swAng="-5400000"/>
                <a:lnTo>
                  <a:pt x="21600" y="3600"/>
                </a:lnTo>
                <a:arcTo wR="3600" hR="3600" stAng="0" swAng="-5400000"/>
                <a:close/>
              </a:path>
            </a:pathLst>
          </a:custGeom>
          <a:gradFill rotWithShape="0">
            <a:gsLst>
              <a:gs pos="0">
                <a:srgbClr val="ffffff"/>
              </a:gs>
              <a:gs pos="50000">
                <a:srgbClr val="ff99cc"/>
              </a:gs>
              <a:gs pos="100000">
                <a:srgbClr val="ffff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300" spc="-1" strike="noStrike">
                <a:solidFill>
                  <a:srgbClr val="006699"/>
                </a:solidFill>
                <a:latin typeface="Arial"/>
              </a:rPr>
              <a:t>                </a:t>
            </a:r>
            <a:r>
              <a:rPr b="1" lang="kk-KZ" sz="1600" spc="-1" strike="noStrike">
                <a:solidFill>
                  <a:srgbClr val="003366"/>
                </a:solidFill>
                <a:latin typeface="Times New Roman"/>
                <a:ea typeface="Times New Roman"/>
              </a:rPr>
              <a:t>Төрт амал</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6699"/>
                </a:solidFill>
                <a:latin typeface="Times New Roman"/>
                <a:ea typeface="Times New Roman"/>
              </a:rPr>
              <a:t>...</a:t>
            </a:r>
            <a:r>
              <a:rPr b="1" i="1" lang="kk-KZ" sz="1600" spc="-1" strike="noStrike">
                <a:solidFill>
                  <a:srgbClr val="006699"/>
                </a:solidFill>
                <a:latin typeface="Times New Roman"/>
                <a:ea typeface="Times New Roman"/>
              </a:rPr>
              <a:t>Ә дегенде алуды білу керек.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Times New Roman"/>
                <a:ea typeface="Times New Roman"/>
              </a:rPr>
              <a:t> </a:t>
            </a:r>
            <a:r>
              <a:rPr b="1" i="1" lang="kk-KZ" sz="1600" spc="-1" strike="noStrike">
                <a:solidFill>
                  <a:srgbClr val="006699"/>
                </a:solidFill>
                <a:latin typeface="Times New Roman"/>
                <a:ea typeface="Times New Roman"/>
              </a:rPr>
              <a:t>Алуды білу үшін қолыңды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Times New Roman"/>
                <a:ea typeface="Times New Roman"/>
              </a:rPr>
              <a:t> </a:t>
            </a:r>
            <a:r>
              <a:rPr b="1" i="1" lang="kk-KZ" sz="1600" spc="-1" strike="noStrike">
                <a:solidFill>
                  <a:srgbClr val="006699"/>
                </a:solidFill>
                <a:latin typeface="Times New Roman"/>
                <a:ea typeface="Times New Roman"/>
              </a:rPr>
              <a:t>Басқа қалтаға салуды білу керек...</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Times New Roman"/>
                <a:ea typeface="Times New Roman"/>
              </a:rPr>
              <a:t> </a:t>
            </a:r>
            <a:r>
              <a:rPr b="1" i="1" lang="kk-KZ" sz="1600" spc="-1" strike="noStrike">
                <a:solidFill>
                  <a:srgbClr val="006699"/>
                </a:solidFill>
                <a:latin typeface="Times New Roman"/>
                <a:ea typeface="Times New Roman"/>
              </a:rPr>
              <a:t>Алғаның дәмді болу үшін,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Times New Roman"/>
                <a:ea typeface="Times New Roman"/>
              </a:rPr>
              <a:t> </a:t>
            </a:r>
            <a:r>
              <a:rPr b="1" i="1" lang="kk-KZ" sz="1600" spc="-1" strike="noStrike">
                <a:solidFill>
                  <a:srgbClr val="006699"/>
                </a:solidFill>
                <a:latin typeface="Times New Roman"/>
                <a:ea typeface="Times New Roman"/>
              </a:rPr>
              <a:t>Бәрі заңды болу керек.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Times New Roman"/>
                <a:ea typeface="Times New Roman"/>
              </a:rPr>
              <a:t> </a:t>
            </a:r>
            <a:r>
              <a:rPr b="1" i="1" lang="kk-KZ" sz="1600" spc="-1" strike="noStrike">
                <a:solidFill>
                  <a:srgbClr val="006699"/>
                </a:solidFill>
                <a:latin typeface="Times New Roman"/>
                <a:ea typeface="Times New Roman"/>
              </a:rPr>
              <a:t>Ит бол, құс бол, үйрек бол,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Times New Roman"/>
                <a:ea typeface="Times New Roman"/>
              </a:rPr>
              <a:t> </a:t>
            </a:r>
            <a:r>
              <a:rPr b="1" i="1" lang="kk-KZ" sz="1600" spc="-1" strike="noStrike">
                <a:solidFill>
                  <a:srgbClr val="006699"/>
                </a:solidFill>
                <a:latin typeface="Times New Roman"/>
                <a:ea typeface="Times New Roman"/>
              </a:rPr>
              <a:t>Бәрін үйіңе сүйреп кел.</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Times New Roman"/>
                <a:ea typeface="Times New Roman"/>
              </a:rPr>
              <a:t> </a:t>
            </a:r>
            <a:r>
              <a:rPr b="1" i="1" lang="kk-KZ" sz="1600" spc="-1" strike="noStrike">
                <a:solidFill>
                  <a:srgbClr val="006699"/>
                </a:solidFill>
                <a:latin typeface="Times New Roman"/>
                <a:ea typeface="Times New Roman"/>
              </a:rPr>
              <a:t>Қысқасы,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Times New Roman"/>
                <a:ea typeface="Times New Roman"/>
              </a:rPr>
              <a:t> </a:t>
            </a:r>
            <a:r>
              <a:rPr b="1" i="1" lang="kk-KZ" sz="1600" spc="-1" strike="noStrike">
                <a:solidFill>
                  <a:srgbClr val="006699"/>
                </a:solidFill>
                <a:latin typeface="Times New Roman"/>
                <a:ea typeface="Times New Roman"/>
              </a:rPr>
              <a:t>Аларда алмаң-жалмаң,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Times New Roman"/>
                <a:ea typeface="Times New Roman"/>
              </a:rPr>
              <a:t> </a:t>
            </a:r>
            <a:r>
              <a:rPr b="1" i="1" lang="kk-KZ" sz="1600" spc="-1" strike="noStrike">
                <a:solidFill>
                  <a:srgbClr val="006699"/>
                </a:solidFill>
                <a:latin typeface="Times New Roman"/>
                <a:ea typeface="Times New Roman"/>
              </a:rPr>
              <a:t>Берерде безгек-түйнек бол</a:t>
            </a:r>
            <a:r>
              <a:rPr b="1" lang="kk-KZ" sz="1600" spc="-1" strike="noStrike">
                <a:solidFill>
                  <a:srgbClr val="006699"/>
                </a:solidFill>
                <a:latin typeface="Times New Roman"/>
                <a:ea typeface="Times New Roman"/>
              </a:rPr>
              <a:t> </a:t>
            </a:r>
            <a:endParaRPr b="0" lang="en-US" sz="1600" spc="-1" strike="noStrike">
              <a:solidFill>
                <a:srgbClr val="006699"/>
              </a:solidFill>
              <a:latin typeface="Verdana"/>
            </a:endParaRPr>
          </a:p>
        </p:txBody>
      </p:sp>
      <p:sp>
        <p:nvSpPr>
          <p:cNvPr id="284" name="Text Box 14"/>
          <p:cNvSpPr/>
          <p:nvPr/>
        </p:nvSpPr>
        <p:spPr>
          <a:xfrm>
            <a:off x="4643280" y="1071720"/>
            <a:ext cx="4105440" cy="639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       </a:t>
            </a:r>
            <a:r>
              <a:rPr b="1" i="1" lang="kk-KZ" sz="1600" spc="-1" strike="noStrike">
                <a:solidFill>
                  <a:srgbClr val="003366"/>
                </a:solidFill>
                <a:latin typeface="Times New Roman"/>
                <a:ea typeface="Times New Roman"/>
              </a:rPr>
              <a:t>Қағаз бен Сабаз</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Бір мәселе қараған мәжілісте</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Сабаз деген біреу сөз алд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Бұған сөз беретін түрі жоқ,</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Тіленіп отырып өзі алд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Галстугын ырғап,</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Тамағын қырнап,</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Мінбеге Сабаз шықт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Мұның да сөзі қойнында екен.</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Қалтасынан қағаз шықт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Іш қалтадан да суырып алд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Сырт қалтадан да суырып алд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Мұның қағазы көп болып шықт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Бірақ құдай айтқанда,</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Дәл осы жиында</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a:t>
            </a:r>
            <a:r>
              <a:rPr b="1" i="1" lang="kk-KZ" sz="1600" spc="-1" strike="noStrike">
                <a:solidFill>
                  <a:srgbClr val="6600cc"/>
                </a:solidFill>
                <a:latin typeface="Times New Roman"/>
                <a:ea typeface="Times New Roman"/>
              </a:rPr>
              <a:t>Сойлейтін” қағаз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Жоқ болып шықт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a:t>
            </a:r>
            <a:r>
              <a:rPr b="1" i="1" lang="kk-KZ" sz="1600" spc="-1" strike="noStrike">
                <a:solidFill>
                  <a:srgbClr val="6600cc"/>
                </a:solidFill>
                <a:latin typeface="Times New Roman"/>
                <a:ea typeface="Times New Roman"/>
              </a:rPr>
              <a:t>Мына сөзді сөйле” деп,</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Дайын сөзін кім берер</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Қағазы көп,сөзі жоқ</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6600cc"/>
                </a:solidFill>
                <a:latin typeface="Times New Roman"/>
                <a:ea typeface="Times New Roman"/>
              </a:rPr>
              <a:t>Сабаз кайтіп күн көрер?!</a:t>
            </a:r>
            <a:endParaRPr b="0" lang="en-US" sz="1600" spc="-1" strike="noStrike">
              <a:solidFill>
                <a:srgbClr val="006699"/>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ffffff"/>
            </a:gs>
            <a:gs pos="100000">
              <a:srgbClr val="ff3300"/>
            </a:gs>
          </a:gsLst>
          <a:lin ang="18900000"/>
        </a:gradFill>
      </p:bgPr>
    </p:bg>
    <p:spTree>
      <p:nvGrpSpPr>
        <p:cNvPr id="1" name=""/>
        <p:cNvGrpSpPr/>
        <p:nvPr/>
      </p:nvGrpSpPr>
      <p:grpSpPr>
        <a:xfrm>
          <a:off x="0" y="0"/>
          <a:ext cx="0" cy="0"/>
          <a:chOff x="0" y="0"/>
          <a:chExt cx="0" cy="0"/>
        </a:xfrm>
      </p:grpSpPr>
      <p:sp>
        <p:nvSpPr>
          <p:cNvPr id="285" name="WordArt 6"/>
          <p:cNvSpPr txBox="1"/>
          <p:nvPr/>
        </p:nvSpPr>
        <p:spPr>
          <a:xfrm>
            <a:off x="1258920" y="3141720"/>
            <a:ext cx="66261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ffff">
                    <a:alpha val="50000"/>
                  </a:srgbClr>
                </a:solidFill>
                <a:effectLst>
                  <a:outerShdw dist="40186" dir="1096358" blurRad="0" rotWithShape="0">
                    <a:srgbClr val="9999ff"/>
                  </a:outerShdw>
                </a:effectLst>
                <a:latin typeface="Times New Roman"/>
              </a:rPr>
              <a:t>Іштарлық, өсекшілдік , жеңілтектік, мақтаншақтық </a:t>
            </a:r>
            <a:endParaRPr b="0" lang="en-US" sz="2400" spc="1" strike="noStrike">
              <a:ln w="12600">
                <a:solidFill>
                  <a:srgbClr val="3333cc"/>
                </a:solidFill>
                <a:miter/>
              </a:ln>
              <a:solidFill>
                <a:srgbClr val="00ffff">
                  <a:alpha val="50000"/>
                </a:srgbClr>
              </a:solidFill>
              <a:effectLst>
                <a:outerShdw dist="40186" dir="1096358" blurRad="0" rotWithShape="0">
                  <a:srgbClr val="9999ff"/>
                </a:outerShdw>
              </a:effectLst>
              <a:latin typeface="Times New Roman"/>
              <a:ea typeface="Times New Roman"/>
            </a:endParaRPr>
          </a:p>
        </p:txBody>
      </p:sp>
      <p:sp>
        <p:nvSpPr>
          <p:cNvPr id="286" name="AutoShape 7"/>
          <p:cNvSpPr/>
          <p:nvPr/>
        </p:nvSpPr>
        <p:spPr>
          <a:xfrm>
            <a:off x="539640" y="260280"/>
            <a:ext cx="2449800" cy="1224000"/>
          </a:xfrm>
          <a:prstGeom prst="flowChartDocument">
            <a:avLst/>
          </a:prstGeom>
          <a:blipFill rotWithShape="0">
            <a:blip r:embed="rId1"/>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Жеңешемнің </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қолы бос</a:t>
            </a:r>
            <a:r>
              <a:rPr b="1" lang="ru-RU" sz="1800" spc="-1" strike="noStrike">
                <a:solidFill>
                  <a:srgbClr val="ebf7ff"/>
                </a:solidFill>
                <a:latin typeface="Arial"/>
              </a:rPr>
              <a:t> </a:t>
            </a:r>
            <a:endParaRPr b="0" lang="en-US" sz="1800" spc="-1" strike="noStrike">
              <a:solidFill>
                <a:srgbClr val="006699"/>
              </a:solidFill>
              <a:latin typeface="Verdana"/>
            </a:endParaRPr>
          </a:p>
        </p:txBody>
      </p:sp>
      <p:sp>
        <p:nvSpPr>
          <p:cNvPr id="287" name="AutoShape 8"/>
          <p:cNvSpPr/>
          <p:nvPr/>
        </p:nvSpPr>
        <p:spPr>
          <a:xfrm>
            <a:off x="684360" y="1773360"/>
            <a:ext cx="3240000" cy="1224000"/>
          </a:xfrm>
          <a:prstGeom prst="flowChartDocument">
            <a:avLst/>
          </a:prstGeom>
          <a:blipFill rotWithShape="0">
            <a:blip r:embed="rId2"/>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Ағайлар</a:t>
            </a:r>
            <a:r>
              <a:rPr b="1" lang="kk-KZ" sz="1800" spc="-1" strike="noStrike">
                <a:solidFill>
                  <a:srgbClr val="ebf7ff"/>
                </a:solidFill>
                <a:latin typeface="Arial"/>
              </a:rPr>
              <a:t> </a:t>
            </a:r>
            <a:r>
              <a:rPr b="1" lang="kk-KZ" sz="1800" spc="-1" strike="noStrike">
                <a:solidFill>
                  <a:srgbClr val="003366"/>
                </a:solidFill>
                <a:latin typeface="Arial"/>
              </a:rPr>
              <a:t>мен  жеңгейлер</a:t>
            </a:r>
            <a:r>
              <a:rPr b="1" lang="kk-KZ" sz="1800" spc="-1" strike="noStrike">
                <a:solidFill>
                  <a:srgbClr val="006699"/>
                </a:solidFill>
                <a:latin typeface="Arial"/>
              </a:rPr>
              <a:t> </a:t>
            </a:r>
            <a:endParaRPr b="0" lang="en-US" sz="1800" spc="-1" strike="noStrike">
              <a:solidFill>
                <a:srgbClr val="006699"/>
              </a:solidFill>
              <a:latin typeface="Verdana"/>
            </a:endParaRPr>
          </a:p>
        </p:txBody>
      </p:sp>
      <p:sp>
        <p:nvSpPr>
          <p:cNvPr id="288" name="AutoShape 9"/>
          <p:cNvSpPr/>
          <p:nvPr/>
        </p:nvSpPr>
        <p:spPr>
          <a:xfrm>
            <a:off x="6084720" y="1773360"/>
            <a:ext cx="2449800" cy="1224000"/>
          </a:xfrm>
          <a:prstGeom prst="flowChartDocument">
            <a:avLst/>
          </a:prstGeom>
          <a:blipFill rotWithShape="0">
            <a:blip r:embed="rId3"/>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Кездейсоқ махаббат</a:t>
            </a:r>
            <a:r>
              <a:rPr b="1" lang="ru-RU" sz="1800" spc="-1" strike="noStrike">
                <a:solidFill>
                  <a:srgbClr val="003366"/>
                </a:solidFill>
                <a:latin typeface="Arial"/>
              </a:rPr>
              <a:t> </a:t>
            </a:r>
            <a:endParaRPr b="0" lang="en-US" sz="1800" spc="-1" strike="noStrike">
              <a:solidFill>
                <a:srgbClr val="006699"/>
              </a:solidFill>
              <a:latin typeface="Verdana"/>
            </a:endParaRPr>
          </a:p>
        </p:txBody>
      </p:sp>
      <p:sp>
        <p:nvSpPr>
          <p:cNvPr id="289" name="AutoShape 10"/>
          <p:cNvSpPr/>
          <p:nvPr/>
        </p:nvSpPr>
        <p:spPr>
          <a:xfrm>
            <a:off x="4788000" y="260280"/>
            <a:ext cx="2449440" cy="1224000"/>
          </a:xfrm>
          <a:prstGeom prst="flowChartDocument">
            <a:avLst/>
          </a:prstGeom>
          <a:blipFill rotWithShape="0">
            <a:blip r:embed="rId4"/>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Шұбыртпалы </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фельетон </a:t>
            </a:r>
            <a:endParaRPr b="0" lang="en-US" sz="1800" spc="-1" strike="noStrike">
              <a:solidFill>
                <a:srgbClr val="006699"/>
              </a:solidFill>
              <a:latin typeface="Verdana"/>
            </a:endParaRPr>
          </a:p>
        </p:txBody>
      </p:sp>
      <p:sp>
        <p:nvSpPr>
          <p:cNvPr id="290" name="AutoShape 11"/>
          <p:cNvSpPr/>
          <p:nvPr/>
        </p:nvSpPr>
        <p:spPr>
          <a:xfrm>
            <a:off x="755640" y="5445000"/>
            <a:ext cx="2449440" cy="1224000"/>
          </a:xfrm>
          <a:prstGeom prst="flowChartDocument">
            <a:avLst/>
          </a:prstGeom>
          <a:blipFill rotWithShape="0">
            <a:blip r:embed="rId5"/>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Көршілер хикаясы</a:t>
            </a:r>
            <a:r>
              <a:rPr b="1" lang="ru-RU" sz="1800" spc="-1" strike="noStrike">
                <a:solidFill>
                  <a:srgbClr val="003366"/>
                </a:solidFill>
                <a:latin typeface="Arial"/>
              </a:rPr>
              <a:t> </a:t>
            </a:r>
            <a:endParaRPr b="0" lang="en-US" sz="1800" spc="-1" strike="noStrike">
              <a:solidFill>
                <a:srgbClr val="006699"/>
              </a:solidFill>
              <a:latin typeface="Verdana"/>
            </a:endParaRPr>
          </a:p>
        </p:txBody>
      </p:sp>
      <p:sp>
        <p:nvSpPr>
          <p:cNvPr id="291" name="AutoShape 12"/>
          <p:cNvSpPr/>
          <p:nvPr/>
        </p:nvSpPr>
        <p:spPr>
          <a:xfrm>
            <a:off x="250920" y="3860640"/>
            <a:ext cx="2449440" cy="1224000"/>
          </a:xfrm>
          <a:prstGeom prst="flowChartDocument">
            <a:avLst/>
          </a:prstGeom>
          <a:blipFill rotWithShape="0">
            <a:blip r:embed="rId6"/>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Қарбыз бен қауын</a:t>
            </a:r>
            <a:r>
              <a:rPr b="1" lang="ru-RU" sz="1800" spc="-1" strike="noStrike">
                <a:solidFill>
                  <a:srgbClr val="003366"/>
                </a:solidFill>
                <a:latin typeface="Arial"/>
              </a:rPr>
              <a:t> </a:t>
            </a:r>
            <a:endParaRPr b="0" lang="en-US" sz="1800" spc="-1" strike="noStrike">
              <a:solidFill>
                <a:srgbClr val="006699"/>
              </a:solidFill>
              <a:latin typeface="Verdana"/>
            </a:endParaRPr>
          </a:p>
        </p:txBody>
      </p:sp>
      <p:sp>
        <p:nvSpPr>
          <p:cNvPr id="292" name="AutoShape 13"/>
          <p:cNvSpPr/>
          <p:nvPr/>
        </p:nvSpPr>
        <p:spPr>
          <a:xfrm>
            <a:off x="6443640" y="4005360"/>
            <a:ext cx="2449440" cy="1224000"/>
          </a:xfrm>
          <a:prstGeom prst="flowChartDocument">
            <a:avLst/>
          </a:prstGeom>
          <a:blipFill rotWithShape="0">
            <a:blip r:embed="rId7"/>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Ой  сұмдық -ай</a:t>
            </a:r>
            <a:r>
              <a:rPr b="1" lang="ru-RU" sz="1800" spc="-1" strike="noStrike">
                <a:solidFill>
                  <a:srgbClr val="003366"/>
                </a:solidFill>
                <a:latin typeface="Arial"/>
              </a:rPr>
              <a:t> </a:t>
            </a:r>
            <a:endParaRPr b="0" lang="en-US" sz="1800" spc="-1" strike="noStrike">
              <a:solidFill>
                <a:srgbClr val="006699"/>
              </a:solidFill>
              <a:latin typeface="Verdana"/>
            </a:endParaRPr>
          </a:p>
        </p:txBody>
      </p:sp>
      <p:sp>
        <p:nvSpPr>
          <p:cNvPr id="293" name="AutoShape 14"/>
          <p:cNvSpPr/>
          <p:nvPr/>
        </p:nvSpPr>
        <p:spPr>
          <a:xfrm>
            <a:off x="3851280" y="5373720"/>
            <a:ext cx="3024360" cy="1295280"/>
          </a:xfrm>
          <a:prstGeom prst="flowChartDocument">
            <a:avLst/>
          </a:prstGeom>
          <a:blipFill rotWithShape="0">
            <a:blip r:embed="rId8"/>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Құштарлық пен іштарлық </a:t>
            </a:r>
            <a:endParaRPr b="0" lang="en-US" sz="1800" spc="-1" strike="noStrike">
              <a:solidFill>
                <a:srgbClr val="006699"/>
              </a:solidFill>
              <a:latin typeface="Verdana"/>
            </a:endParaRPr>
          </a:p>
        </p:txBody>
      </p:sp>
      <p:sp>
        <p:nvSpPr>
          <p:cNvPr id="294" name="AutoShape 15"/>
          <p:cNvSpPr/>
          <p:nvPr/>
        </p:nvSpPr>
        <p:spPr>
          <a:xfrm>
            <a:off x="3419640" y="3933720"/>
            <a:ext cx="2376360" cy="1006560"/>
          </a:xfrm>
          <a:prstGeom prst="flowChartDocument">
            <a:avLst/>
          </a:prstGeom>
          <a:blipFill rotWithShape="0">
            <a:blip r:embed="rId9"/>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Тәртіп</a:t>
            </a:r>
            <a:r>
              <a:rPr b="1" lang="ru-RU" sz="1800" spc="-1" strike="noStrike">
                <a:solidFill>
                  <a:srgbClr val="003366"/>
                </a:solidFill>
                <a:latin typeface="Arial"/>
              </a:rPr>
              <a:t> </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5" name="Picture 2" descr=""/>
          <p:cNvPicPr/>
          <p:nvPr/>
        </p:nvPicPr>
        <p:blipFill>
          <a:blip r:embed="rId2"/>
          <a:stretch/>
        </p:blipFill>
        <p:spPr>
          <a:xfrm>
            <a:off x="0" y="0"/>
            <a:ext cx="9144000" cy="6858000"/>
          </a:xfrm>
          <a:prstGeom prst="rect">
            <a:avLst/>
          </a:prstGeom>
          <a:ln w="0">
            <a:noFill/>
          </a:ln>
        </p:spPr>
      </p:pic>
      <p:sp>
        <p:nvSpPr>
          <p:cNvPr id="296" name="WordArt 5"/>
          <p:cNvSpPr txBox="1"/>
          <p:nvPr/>
        </p:nvSpPr>
        <p:spPr>
          <a:xfrm>
            <a:off x="1403280" y="476280"/>
            <a:ext cx="705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333399"/>
                </a:solidFill>
                <a:effectLst>
                  <a:outerShdw dist="153753" dir="2700000" blurRad="0" rotWithShape="0">
                    <a:srgbClr val="c0c0c0">
                      <a:alpha val="80000"/>
                    </a:srgbClr>
                  </a:outerShdw>
                </a:effectLst>
                <a:latin typeface="Arial"/>
              </a:rPr>
              <a:t>Жатыпішерлік, арамтамақтық, жетесіздік</a:t>
            </a:r>
            <a:endParaRPr b="0" lang="en-US" sz="1800" spc="1" strike="noStrike">
              <a:ln w="12600">
                <a:solidFill>
                  <a:srgbClr val="eaeaea"/>
                </a:solidFill>
                <a:miter/>
              </a:ln>
              <a:solidFill>
                <a:srgbClr val="333399"/>
              </a:solidFill>
              <a:effectLst>
                <a:outerShdw dist="153753" dir="2700000" blurRad="0" rotWithShape="0">
                  <a:srgbClr val="c0c0c0">
                    <a:alpha val="80000"/>
                  </a:srgbClr>
                </a:outerShdw>
              </a:effectLst>
              <a:latin typeface="Arial"/>
              <a:ea typeface="Arial"/>
            </a:endParaRPr>
          </a:p>
        </p:txBody>
      </p:sp>
      <p:sp>
        <p:nvSpPr>
          <p:cNvPr id="297" name="AutoShape 6"/>
          <p:cNvSpPr/>
          <p:nvPr/>
        </p:nvSpPr>
        <p:spPr>
          <a:xfrm>
            <a:off x="468360" y="1700280"/>
            <a:ext cx="2233440" cy="1439640"/>
          </a:xfrm>
          <a:custGeom>
            <a:avLst/>
            <a:gdLst>
              <a:gd name="textAreaLeft" fmla="*/ 509760 w 2233440"/>
              <a:gd name="textAreaRight" fmla="*/ 1723680 w 2233440"/>
              <a:gd name="textAreaTop" fmla="*/ 328680 h 1439640"/>
              <a:gd name="textAreaBottom" fmla="*/ 1110960 h 1439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3366"/>
                </a:solidFill>
                <a:latin typeface="Arial"/>
              </a:rPr>
              <a:t>Амандық хат</a:t>
            </a:r>
            <a:r>
              <a:rPr b="1" lang="ru-RU" sz="1800" spc="-1" strike="noStrike">
                <a:solidFill>
                  <a:srgbClr val="003366"/>
                </a:solidFill>
                <a:latin typeface="Arial"/>
              </a:rPr>
              <a:t> </a:t>
            </a:r>
            <a:endParaRPr b="0" lang="en-US" sz="1800" spc="-1" strike="noStrike">
              <a:solidFill>
                <a:srgbClr val="006699"/>
              </a:solidFill>
              <a:latin typeface="Verdana"/>
            </a:endParaRPr>
          </a:p>
        </p:txBody>
      </p:sp>
      <p:sp>
        <p:nvSpPr>
          <p:cNvPr id="298" name="AutoShape 7"/>
          <p:cNvSpPr/>
          <p:nvPr/>
        </p:nvSpPr>
        <p:spPr>
          <a:xfrm>
            <a:off x="324000" y="3860640"/>
            <a:ext cx="2232000" cy="1440000"/>
          </a:xfrm>
          <a:custGeom>
            <a:avLst/>
            <a:gdLst>
              <a:gd name="textAreaLeft" fmla="*/ 509400 w 2232000"/>
              <a:gd name="textAreaRight" fmla="*/ 1722600 w 2232000"/>
              <a:gd name="textAreaTop" fmla="*/ 328680 h 1440000"/>
              <a:gd name="textAreaBottom" fmla="*/ 1111320 h 1440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00ff"/>
              </a:gs>
              <a:gs pos="50000">
                <a:srgbClr val="ffffff"/>
              </a:gs>
              <a:gs pos="100000">
                <a:srgbClr val="ff00ff"/>
              </a:gs>
            </a:gsLst>
            <a:lin ang="1890000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3366"/>
                </a:solidFill>
                <a:latin typeface="Arial"/>
              </a:rPr>
              <a:t>Шалдың</a:t>
            </a:r>
            <a:r>
              <a:rPr b="1" lang="kk-KZ" sz="1600" spc="-1" strike="noStrike">
                <a:solidFill>
                  <a:srgbClr val="ebf7ff"/>
                </a:solidFill>
                <a:latin typeface="Arial"/>
              </a:rPr>
              <a:t> </a:t>
            </a: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3366"/>
                </a:solidFill>
                <a:latin typeface="Arial"/>
              </a:rPr>
              <a:t>жалғыз</a:t>
            </a:r>
            <a:r>
              <a:rPr b="1" lang="kk-KZ" sz="1600" spc="-1" strike="noStrike">
                <a:solidFill>
                  <a:srgbClr val="ebf7ff"/>
                </a:solidFill>
                <a:latin typeface="Arial"/>
              </a:rPr>
              <a:t> </a:t>
            </a: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3366"/>
                </a:solidFill>
                <a:latin typeface="Arial"/>
              </a:rPr>
              <a:t>боздағы</a:t>
            </a:r>
            <a:r>
              <a:rPr b="1" lang="ru-RU" sz="1600" spc="-1" strike="noStrike">
                <a:solidFill>
                  <a:srgbClr val="ebf7ff"/>
                </a:solidFill>
                <a:latin typeface="Arial"/>
              </a:rPr>
              <a:t> </a:t>
            </a:r>
            <a:endParaRPr b="0" lang="en-US" sz="1600" spc="-1" strike="noStrike">
              <a:solidFill>
                <a:srgbClr val="006699"/>
              </a:solidFill>
              <a:latin typeface="Verdana"/>
            </a:endParaRPr>
          </a:p>
        </p:txBody>
      </p:sp>
      <p:sp>
        <p:nvSpPr>
          <p:cNvPr id="299" name="AutoShape 8"/>
          <p:cNvSpPr/>
          <p:nvPr/>
        </p:nvSpPr>
        <p:spPr>
          <a:xfrm>
            <a:off x="4067280" y="1484280"/>
            <a:ext cx="2449440" cy="1584360"/>
          </a:xfrm>
          <a:custGeom>
            <a:avLst/>
            <a:gdLst>
              <a:gd name="textAreaLeft" fmla="*/ 559080 w 2449440"/>
              <a:gd name="textAreaRight" fmla="*/ 1890360 w 2449440"/>
              <a:gd name="textAreaTop" fmla="*/ 361440 h 1584360"/>
              <a:gd name="textAreaBottom" fmla="*/ 1222920 h 1584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blipFill rotWithShape="0">
            <a:blip r:embed="rId3"/>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3366"/>
                </a:solidFill>
                <a:latin typeface="Arial"/>
              </a:rPr>
              <a:t>Адам</a:t>
            </a:r>
            <a:r>
              <a:rPr b="1" lang="kk-KZ" sz="1600" spc="-1" strike="noStrike">
                <a:solidFill>
                  <a:srgbClr val="ebf7ff"/>
                </a:solidFill>
                <a:latin typeface="Arial"/>
              </a:rPr>
              <a:t> </a:t>
            </a: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3366"/>
                </a:solidFill>
                <a:latin typeface="Arial"/>
              </a:rPr>
              <a:t>жетектеген адам</a:t>
            </a:r>
            <a:r>
              <a:rPr b="1" lang="ru-RU" sz="1600" spc="-1" strike="noStrike">
                <a:solidFill>
                  <a:srgbClr val="003366"/>
                </a:solidFill>
                <a:latin typeface="Arial"/>
              </a:rPr>
              <a:t> </a:t>
            </a:r>
            <a:endParaRPr b="0" lang="en-US" sz="1600" spc="-1" strike="noStrike">
              <a:solidFill>
                <a:srgbClr val="006699"/>
              </a:solidFill>
              <a:latin typeface="Verdana"/>
            </a:endParaRPr>
          </a:p>
        </p:txBody>
      </p:sp>
      <p:sp>
        <p:nvSpPr>
          <p:cNvPr id="300" name="Rectangle 10"/>
          <p:cNvSpPr/>
          <p:nvPr/>
        </p:nvSpPr>
        <p:spPr>
          <a:xfrm>
            <a:off x="2763720" y="3075480"/>
            <a:ext cx="4278600" cy="3501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Жетектеп қосқан ит түлкі алмайды»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Деген мақал осы күнге дейін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Соңымыздан қалмайды.</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Алдымыз жетіден,</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Соңымыз екіден,</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Азды-көпті бала өсіріп жүрміз.</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Солар оқуға түссе керек бола ма деп,</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Балаға қоса мал өсіріп жүрміз...</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	</a:t>
            </a:r>
            <a:r>
              <a:rPr b="1" i="1" lang="kk-KZ" sz="1600" spc="-1" strike="noStrike">
                <a:solidFill>
                  <a:srgbClr val="006699"/>
                </a:solidFill>
                <a:latin typeface="Arial"/>
              </a:rPr>
              <a:t>* * *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           </a:t>
            </a:r>
            <a:r>
              <a:rPr b="1" i="1" lang="kk-KZ" sz="1600" spc="-1" strike="noStrike">
                <a:solidFill>
                  <a:srgbClr val="006699"/>
                </a:solidFill>
                <a:latin typeface="Arial"/>
              </a:rPr>
              <a:t>* * * </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   </a:t>
            </a:r>
            <a:r>
              <a:rPr b="1" i="1" lang="kk-KZ" sz="1600" spc="-1" strike="noStrike">
                <a:solidFill>
                  <a:srgbClr val="006699"/>
                </a:solidFill>
                <a:latin typeface="Arial"/>
              </a:rPr>
              <a:t>Жетектегі жетесіз,</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   </a:t>
            </a:r>
            <a:r>
              <a:rPr b="1" i="1" lang="kk-KZ" sz="1600" spc="-1" strike="noStrike">
                <a:solidFill>
                  <a:srgbClr val="006699"/>
                </a:solidFill>
                <a:latin typeface="Arial"/>
              </a:rPr>
              <a:t>Жетесіз болса не етеміз?</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    </a:t>
            </a:r>
            <a:r>
              <a:rPr b="1" i="1" lang="kk-KZ" sz="1600" spc="-1" strike="noStrike">
                <a:solidFill>
                  <a:srgbClr val="006699"/>
                </a:solidFill>
                <a:latin typeface="Arial"/>
              </a:rPr>
              <a:t>Жетекке алып қайтадан,</a:t>
            </a:r>
            <a:endParaRPr b="0" lang="en-US" sz="1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6699"/>
                </a:solidFill>
                <a:latin typeface="Arial"/>
              </a:rPr>
              <a:t>    </a:t>
            </a:r>
            <a:r>
              <a:rPr b="1" i="1" lang="kk-KZ" sz="1600" spc="-1" strike="noStrike">
                <a:solidFill>
                  <a:srgbClr val="006699"/>
                </a:solidFill>
                <a:latin typeface="Arial"/>
              </a:rPr>
              <a:t>Ауылыңызға кетесіз.</a:t>
            </a:r>
            <a:endParaRPr b="0" lang="en-US" sz="1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edfad2"/>
            </a:gs>
            <a:gs pos="100000">
              <a:srgbClr val="6699ff"/>
            </a:gs>
          </a:gsLst>
          <a:lin ang="5400000"/>
        </a:gradFill>
      </p:bgPr>
    </p:bg>
    <p:spTree>
      <p:nvGrpSpPr>
        <p:cNvPr id="1" name=""/>
        <p:cNvGrpSpPr/>
        <p:nvPr/>
      </p:nvGrpSpPr>
      <p:grpSpPr>
        <a:xfrm>
          <a:off x="0" y="0"/>
          <a:ext cx="0" cy="0"/>
          <a:chOff x="0" y="0"/>
          <a:chExt cx="0" cy="0"/>
        </a:xfrm>
      </p:grpSpPr>
      <p:pic>
        <p:nvPicPr>
          <p:cNvPr id="301" name="Picture 2" descr=""/>
          <p:cNvPicPr/>
          <p:nvPr/>
        </p:nvPicPr>
        <p:blipFill>
          <a:blip r:embed="rId1"/>
          <a:stretch/>
        </p:blipFill>
        <p:spPr>
          <a:xfrm>
            <a:off x="0" y="0"/>
            <a:ext cx="9144000" cy="6858000"/>
          </a:xfrm>
          <a:prstGeom prst="rect">
            <a:avLst/>
          </a:prstGeom>
          <a:ln w="0">
            <a:noFill/>
          </a:ln>
        </p:spPr>
      </p:pic>
      <p:sp>
        <p:nvSpPr>
          <p:cNvPr id="302" name="Rectangle 4"/>
          <p:cNvSpPr/>
          <p:nvPr/>
        </p:nvSpPr>
        <p:spPr>
          <a:xfrm>
            <a:off x="684360" y="405000"/>
            <a:ext cx="76327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99"/>
                </a:solidFill>
                <a:latin typeface="Arial"/>
              </a:rPr>
              <a:t>Сықақ өлеңнің негізгі мақсаты- ізгілік, игілік. Ол адамды адал өмір сүруге, арлы болуға, намысшыл болуға үйретеді. Жалақорлық  пен   өтірік ,  жағымпаздық пен жемқорлық, арамдық пен іштарлық, мақтаншақтық пен ұятсыздық, алаяқтық пен дүниеқорлық, пәтуасыздық пен өсек таратушылыққа қарсы күресуге баулиды. Сықақ өлең тек құртып ­ жою үшін  ғана емес, оқырмандар сабақ алсын, сақтансын, сақ болсын деп жазылады.</a:t>
            </a:r>
            <a:r>
              <a:rPr b="1" i="1" lang="ru-RU" sz="1800" spc="-1" strike="noStrike">
                <a:solidFill>
                  <a:srgbClr val="000099"/>
                </a:solidFill>
                <a:latin typeface="Arial"/>
              </a:rPr>
              <a:t> </a:t>
            </a:r>
            <a:endParaRPr b="0" lang="en-US" sz="1800" spc="-1" strike="noStrike">
              <a:solidFill>
                <a:srgbClr val="006699"/>
              </a:solidFill>
              <a:latin typeface="Verdana"/>
            </a:endParaRPr>
          </a:p>
        </p:txBody>
      </p:sp>
      <p:sp>
        <p:nvSpPr>
          <p:cNvPr id="303" name="Rectangle 5"/>
          <p:cNvSpPr/>
          <p:nvPr/>
        </p:nvSpPr>
        <p:spPr>
          <a:xfrm>
            <a:off x="0" y="2708280"/>
            <a:ext cx="84978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6699"/>
                </a:solidFill>
                <a:latin typeface="Arial"/>
              </a:rPr>
              <a:t>	</a:t>
            </a:r>
            <a:r>
              <a:rPr b="1" i="1" lang="kk-KZ" sz="1800" spc="-1" strike="noStrike">
                <a:solidFill>
                  <a:srgbClr val="660066"/>
                </a:solidFill>
                <a:latin typeface="Arial"/>
              </a:rPr>
              <a:t>Көпен Әмірбек: “Қайран Осекең!  Күлкі мен әзілдің , мысал мен мысқылдың  көмбесі еді ғой, кені еді ғой... «Сары майда жүгірген қасықтайын», сары алтындай сөз қоры қандай! Ауыз әдебиетін кәусарынан қанып ішкен кешегі ұрпақтың өкілі Оспанхан Әубәкіров сатираны классикалық дәрежеге көтерген қазақ”,- деп толғанады. </a:t>
            </a:r>
            <a:endParaRPr b="0" lang="en-US" sz="1800" spc="-1" strike="noStrike">
              <a:solidFill>
                <a:srgbClr val="006699"/>
              </a:solidFill>
              <a:latin typeface="Verdana"/>
            </a:endParaRPr>
          </a:p>
        </p:txBody>
      </p:sp>
      <p:sp>
        <p:nvSpPr>
          <p:cNvPr id="304" name="Rectangle 6"/>
          <p:cNvSpPr/>
          <p:nvPr/>
        </p:nvSpPr>
        <p:spPr>
          <a:xfrm>
            <a:off x="0" y="5214960"/>
            <a:ext cx="8713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660066"/>
                </a:solidFill>
                <a:latin typeface="Georgia"/>
              </a:rPr>
              <a:t>Қазақ әдебиетін, қазақ сатирасын түсінетін халық барда О.Әубәкіровтің шоқтығы биік болмақ...</a:t>
            </a:r>
            <a:r>
              <a:rPr b="1" lang="kk-KZ" sz="1800" spc="-1" strike="noStrike">
                <a:solidFill>
                  <a:srgbClr val="660066"/>
                </a:solidFill>
                <a:latin typeface="Arial"/>
              </a:rPr>
              <a:t>    </a:t>
            </a:r>
            <a:endParaRPr b="0" lang="en-US" sz="1800" spc="-1" strike="noStrike">
              <a:solidFill>
                <a:srgbClr val="006699"/>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 </a:t>
            </a:r>
            <a:endParaRPr b="0" lang="en-US" sz="1800" spc="-1" strike="noStrike">
              <a:solidFill>
                <a:srgbClr val="006699"/>
              </a:solidFill>
              <a:latin typeface="Verdana"/>
            </a:endParaRPr>
          </a:p>
        </p:txBody>
      </p:sp>
      <p:sp>
        <p:nvSpPr>
          <p:cNvPr id="305" name="Rectangle 7"/>
          <p:cNvSpPr/>
          <p:nvPr/>
        </p:nvSpPr>
        <p:spPr>
          <a:xfrm>
            <a:off x="0" y="4292640"/>
            <a:ext cx="86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660066"/>
                </a:solidFill>
                <a:latin typeface="Arial"/>
              </a:rPr>
              <a:t>Ғ. Қабышев: «Мен Оспанхандай жайдары, кішіпейіл жанды сирек кездестірдім. Ол баладай аңқау, ақкөңіл, жүрегінде жықпыл, көңілінде қалтарыс жоқ еді», -  дейді.</a:t>
            </a:r>
            <a:r>
              <a:rPr b="1" i="1" lang="kk-KZ" sz="1800" spc="-1" strike="noStrike">
                <a:solidFill>
                  <a:srgbClr val="006699"/>
                </a:solidFill>
                <a:latin typeface="Arial"/>
              </a:rPr>
              <a:t> </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8900000"/>
        </a:gradFill>
      </p:bgPr>
    </p:bg>
    <p:spTree>
      <p:nvGrpSpPr>
        <p:cNvPr id="1" name=""/>
        <p:cNvGrpSpPr/>
        <p:nvPr/>
      </p:nvGrpSpPr>
      <p:grpSpPr>
        <a:xfrm>
          <a:off x="0" y="0"/>
          <a:ext cx="0" cy="0"/>
          <a:chOff x="0" y="0"/>
          <a:chExt cx="0" cy="0"/>
        </a:xfrm>
      </p:grpSpPr>
      <p:sp>
        <p:nvSpPr>
          <p:cNvPr id="306" name="Rectangle 4"/>
          <p:cNvSpPr/>
          <p:nvPr/>
        </p:nvSpPr>
        <p:spPr>
          <a:xfrm>
            <a:off x="324000" y="467280"/>
            <a:ext cx="8280360" cy="60454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         </a:t>
            </a:r>
            <a:r>
              <a:rPr b="1" i="1" lang="kk-KZ" sz="1800" spc="-1" strike="noStrike">
                <a:solidFill>
                  <a:srgbClr val="006699"/>
                </a:solidFill>
                <a:latin typeface="Arial"/>
              </a:rPr>
              <a:t>	</a:t>
            </a:r>
            <a:r>
              <a:rPr b="1" i="1" lang="kk-KZ" sz="1800" spc="-1" strike="noStrike">
                <a:solidFill>
                  <a:srgbClr val="006699"/>
                </a:solidFill>
                <a:latin typeface="Arial"/>
              </a:rPr>
              <a:t>	</a:t>
            </a:r>
            <a:r>
              <a:rPr b="1" i="1" lang="kk-KZ" sz="1800" spc="-1" strike="noStrike">
                <a:solidFill>
                  <a:srgbClr val="006699"/>
                </a:solidFill>
                <a:latin typeface="Arial"/>
              </a:rPr>
              <a:t>	</a:t>
            </a:r>
            <a:r>
              <a:rPr b="1" i="1" lang="kk-KZ" sz="1800" spc="-1" strike="noStrike">
                <a:solidFill>
                  <a:srgbClr val="006699"/>
                </a:solidFill>
                <a:latin typeface="Arial"/>
              </a:rPr>
              <a:t>           </a:t>
            </a:r>
            <a:r>
              <a:rPr b="1" i="1" lang="kk-KZ" sz="3200" spc="-1" strike="noStrike">
                <a:solidFill>
                  <a:srgbClr val="000099"/>
                </a:solidFill>
                <a:latin typeface="comic"/>
              </a:rPr>
              <a:t>Ұсыныс</a:t>
            </a:r>
            <a:endParaRPr b="0" lang="en-US" sz="3200" spc="-1" strike="noStrike">
              <a:solidFill>
                <a:srgbClr val="006699"/>
              </a:solidFill>
              <a:latin typeface="Verdana"/>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3366"/>
                </a:solidFill>
                <a:latin typeface="Arial"/>
              </a:rPr>
              <a:t>1.О.Әубәкіровтің сықақ өлеңдері орта мектептердің оқу бағдарламасына енгізілсе.</a:t>
            </a:r>
            <a:endParaRPr b="0" lang="en-US" sz="1800" spc="-1" strike="noStrike">
              <a:solidFill>
                <a:srgbClr val="006699"/>
              </a:solidFill>
              <a:latin typeface="Verdana"/>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3366"/>
                </a:solidFill>
                <a:latin typeface="Arial"/>
              </a:rPr>
              <a:t>2. Көгілдір экранда жеңіл әзіл - қалжыңға құрылған хабарлармен қатар  терең мағыналы  сатиралық шығармаларға арналған «Көпен келе жатыр» деген  сияқты ізсіз кеткен хабарлар жалғасын тапса. </a:t>
            </a:r>
            <a:endParaRPr b="0" lang="en-US" sz="1800" spc="-1" strike="noStrike">
              <a:solidFill>
                <a:srgbClr val="006699"/>
              </a:solidFill>
              <a:latin typeface="Verdana"/>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3366"/>
                </a:solidFill>
                <a:latin typeface="Arial"/>
              </a:rPr>
              <a:t>3. Газеттердің соңғы беттеріндегі сатиралық бұрыштармен ғана шектелмей, «Ара» журналы сияқты басылымдар көбейсе.</a:t>
            </a:r>
            <a:r>
              <a:rPr b="1" i="1" lang="kk-KZ" sz="1800" spc="-1" strike="noStrike">
                <a:solidFill>
                  <a:srgbClr val="ebf7ff"/>
                </a:solidFill>
                <a:latin typeface="Arial"/>
              </a:rPr>
              <a:t> </a:t>
            </a:r>
            <a:endParaRPr b="0" lang="en-US" sz="1800" spc="-1" strike="noStrike">
              <a:solidFill>
                <a:srgbClr val="006699"/>
              </a:solidFill>
              <a:latin typeface="Verdana"/>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66ffcc"/>
                </a:solidFill>
                <a:latin typeface="Arial"/>
              </a:rPr>
              <a:t> </a:t>
            </a:r>
            <a:endParaRPr b="0" lang="en-US" sz="1800" spc="-1" strike="noStrike">
              <a:solidFill>
                <a:srgbClr val="006699"/>
              </a:solidFill>
              <a:latin typeface="Verdana"/>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3366"/>
                </a:solidFill>
                <a:latin typeface="Arial"/>
              </a:rPr>
              <a:t>4. Оқушыларды күлкіге бөлей отырып, өзін - өзі тәрбиелеу мақсатында сатиралық шығармалар байқауы ұйымдастырылса.</a:t>
            </a:r>
            <a:endParaRPr b="0" lang="en-US" sz="1800" spc="-1" strike="noStrike">
              <a:solidFill>
                <a:srgbClr val="006699"/>
              </a:solidFill>
              <a:latin typeface="Verdana"/>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3366"/>
                </a:solidFill>
                <a:latin typeface="Arial"/>
              </a:rPr>
              <a:t>5. Сатиралық шығармаларды жазуға бейім оқушыларды іріктеу мақсатында</a:t>
            </a:r>
            <a:endParaRPr b="0" lang="en-US" sz="1800" spc="-1" strike="noStrike">
              <a:solidFill>
                <a:srgbClr val="006699"/>
              </a:solidFill>
              <a:latin typeface="Verdana"/>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3366"/>
                </a:solidFill>
                <a:latin typeface="Arial"/>
              </a:rPr>
              <a:t>« Жас сатирик » газеттері шығарылса.</a:t>
            </a:r>
            <a:endParaRPr b="0" lang="en-US" sz="1800" spc="-1" strike="noStrike">
              <a:solidFill>
                <a:srgbClr val="006699"/>
              </a:solidFill>
              <a:latin typeface="Verdana"/>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18900000"/>
        </a:gradFill>
      </p:bgPr>
    </p:bg>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0" y="0"/>
            <a:ext cx="9144000" cy="6858000"/>
          </a:xfrm>
          <a:prstGeom prst="rect">
            <a:avLst/>
          </a:prstGeom>
          <a:ln w="0">
            <a:noFill/>
          </a:ln>
        </p:spPr>
      </p:pic>
      <p:sp>
        <p:nvSpPr>
          <p:cNvPr id="172" name="WordArt 8"/>
          <p:cNvSpPr txBox="1"/>
          <p:nvPr/>
        </p:nvSpPr>
        <p:spPr>
          <a:xfrm>
            <a:off x="1143000" y="1000080"/>
            <a:ext cx="6769080" cy="863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66006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rPr>
              <a:t>Ғылыми жұмыстың мақсаты:</a:t>
            </a:r>
            <a:endParaRPr b="0" lang="en-US" sz="1800" spc="1" strike="noStrike">
              <a:ln w="12600">
                <a:solidFill>
                  <a:srgbClr val="660066"/>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Times New Roman"/>
              <a:ea typeface="Times New Roman"/>
            </a:endParaRPr>
          </a:p>
        </p:txBody>
      </p:sp>
      <p:sp>
        <p:nvSpPr>
          <p:cNvPr id="173" name="Text Box 9"/>
          <p:cNvSpPr/>
          <p:nvPr/>
        </p:nvSpPr>
        <p:spPr>
          <a:xfrm>
            <a:off x="336600" y="2000160"/>
            <a:ext cx="8807400" cy="4301640"/>
          </a:xfrm>
          <a:prstGeom prst="rect">
            <a:avLst/>
          </a:prstGeom>
          <a:noFill/>
          <a:ln w="0">
            <a:noFill/>
          </a:ln>
        </p:spPr>
        <p:style>
          <a:lnRef idx="0"/>
          <a:fillRef idx="0"/>
          <a:effectRef idx="0"/>
          <a:fontRef idx="minor"/>
        </p:style>
        <p:txBody>
          <a:bodyPr lIns="90000" rIns="90000" tIns="46800" bIns="46800" anchor="t">
            <a:spAutoFit/>
          </a:bodyPr>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6699"/>
                </a:solidFill>
                <a:latin typeface="Arial"/>
              </a:rPr>
              <a:t>       </a:t>
            </a:r>
            <a:r>
              <a:rPr b="0" i="1" lang="kk-KZ" sz="2000" spc="-1" strike="noStrike">
                <a:solidFill>
                  <a:srgbClr val="660066"/>
                </a:solidFill>
                <a:latin typeface="Arial"/>
              </a:rPr>
              <a:t>Оқушылардың бойында кездесетін жағымсыз мінез – құлықтар</a:t>
            </a:r>
            <a:endParaRPr b="0" lang="en-US" sz="2000" spc="-1" strike="noStrike">
              <a:solidFill>
                <a:srgbClr val="006699"/>
              </a:solidFill>
              <a:latin typeface="Verdana"/>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660066"/>
                </a:solidFill>
                <a:latin typeface="Arial"/>
              </a:rPr>
              <a:t> </a:t>
            </a:r>
            <a:r>
              <a:rPr b="0" i="1" lang="kk-KZ" sz="2000" spc="-1" strike="noStrike">
                <a:solidFill>
                  <a:srgbClr val="660066"/>
                </a:solidFill>
                <a:latin typeface="Arial"/>
              </a:rPr>
              <a:t>мен іс-әрекеттерді күлкі арқылы сынай отырып, озық ойлы, тәрбиелі, жан –жақты дамыған, рухани жан  дүниесі бай азаматтарды қалыптастыру.“Жақсыдан үйреніп, жаманнан жирену” керек екендігіне көздерін жеткізу.Осы арқылы көркем әдебиетке (сатиралық шығармалар оқуға) деген  қызығушылықты  арттыру.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Picture 2" descr=""/>
          <p:cNvPicPr/>
          <p:nvPr/>
        </p:nvPicPr>
        <p:blipFill>
          <a:blip r:embed="rId2"/>
          <a:stretch/>
        </p:blipFill>
        <p:spPr>
          <a:xfrm>
            <a:off x="0" y="0"/>
            <a:ext cx="9144000" cy="6858000"/>
          </a:xfrm>
          <a:prstGeom prst="rect">
            <a:avLst/>
          </a:prstGeom>
          <a:ln w="0">
            <a:noFill/>
          </a:ln>
        </p:spPr>
      </p:pic>
      <p:sp>
        <p:nvSpPr>
          <p:cNvPr id="175" name="Rectangle 4"/>
          <p:cNvSpPr/>
          <p:nvPr/>
        </p:nvSpPr>
        <p:spPr>
          <a:xfrm>
            <a:off x="1332000" y="-2880"/>
            <a:ext cx="642600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66"/>
                </a:solidFill>
                <a:latin typeface="Century"/>
              </a:rPr>
              <a:t>Күлкі көрем көгілдір көл бетінен</a:t>
            </a:r>
            <a:endParaRPr b="0" lang="en-US" sz="20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66"/>
                </a:solidFill>
                <a:latin typeface="Century"/>
              </a:rPr>
              <a:t>	</a:t>
            </a:r>
            <a:r>
              <a:rPr b="1" i="1" lang="kk-KZ" sz="2000" spc="-1" strike="noStrike">
                <a:solidFill>
                  <a:srgbClr val="ff0066"/>
                </a:solidFill>
                <a:latin typeface="Century"/>
              </a:rPr>
              <a:t>Күлкі көрем аспаннан, жер бетінен.</a:t>
            </a:r>
            <a:endParaRPr b="0" lang="en-US" sz="20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66"/>
                </a:solidFill>
                <a:latin typeface="Century"/>
              </a:rPr>
              <a:t>Күлкі, күлкі, жан-жағым толған күлкі.</a:t>
            </a:r>
            <a:endParaRPr b="0" lang="en-US" sz="20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66"/>
                </a:solidFill>
                <a:latin typeface="Century"/>
              </a:rPr>
              <a:t>Күлкіменен дүние тербетілген.</a:t>
            </a:r>
            <a:endParaRPr b="0" lang="en-US" sz="20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66"/>
                </a:solidFill>
                <a:latin typeface="Century"/>
              </a:rPr>
              <a:t>                                            </a:t>
            </a:r>
            <a:endParaRPr b="0" lang="en-US" sz="20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66"/>
                </a:solidFill>
                <a:latin typeface="Century"/>
              </a:rPr>
              <a:t>                                              </a:t>
            </a:r>
            <a:r>
              <a:rPr b="1" i="1" lang="kk-KZ" sz="2000" spc="-1" strike="noStrike">
                <a:solidFill>
                  <a:srgbClr val="ff0066"/>
                </a:solidFill>
                <a:latin typeface="Century"/>
              </a:rPr>
              <a:t>Сырбай Мәуленов</a:t>
            </a:r>
            <a:endParaRPr b="0" lang="en-US" sz="2000" spc="-1" strike="noStrike">
              <a:solidFill>
                <a:srgbClr val="006699"/>
              </a:solidFill>
              <a:latin typeface="Verdana"/>
            </a:endParaRPr>
          </a:p>
        </p:txBody>
      </p:sp>
      <p:grpSp>
        <p:nvGrpSpPr>
          <p:cNvPr id="176" name="Diagram 5"/>
          <p:cNvGrpSpPr/>
          <p:nvPr/>
        </p:nvGrpSpPr>
        <p:grpSpPr>
          <a:xfrm>
            <a:off x="1365120" y="1961280"/>
            <a:ext cx="6773400" cy="4445640"/>
            <a:chOff x="1365120" y="1961280"/>
            <a:chExt cx="6773400" cy="4445640"/>
          </a:xfrm>
        </p:grpSpPr>
        <p:sp>
          <p:nvSpPr>
            <p:cNvPr id="177" name="_s1028"/>
            <p:cNvSpPr/>
            <p:nvPr/>
          </p:nvSpPr>
          <p:spPr>
            <a:xfrm flipH="1" flipV="1">
              <a:off x="3556080" y="3398760"/>
              <a:ext cx="597240" cy="391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6699"/>
                </a:solidFill>
                <a:latin typeface="Verdana"/>
              </a:endParaRPr>
            </a:p>
          </p:txBody>
        </p:sp>
        <p:sp>
          <p:nvSpPr>
            <p:cNvPr id="178" name="_s1029"/>
            <p:cNvSpPr/>
            <p:nvPr/>
          </p:nvSpPr>
          <p:spPr>
            <a:xfrm>
              <a:off x="2108880" y="2449440"/>
              <a:ext cx="1693080" cy="11113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500" spc="-1" strike="noStrike">
                  <a:solidFill>
                    <a:srgbClr val="006699"/>
                  </a:solidFill>
                  <a:latin typeface="Arial"/>
                </a:rPr>
                <a:t>Қуаныш күлкі</a:t>
              </a:r>
              <a:endParaRPr b="0" lang="en-US" sz="1500" spc="-1" strike="noStrike">
                <a:solidFill>
                  <a:srgbClr val="006699"/>
                </a:solidFill>
                <a:latin typeface="Verdana"/>
              </a:endParaRPr>
            </a:p>
          </p:txBody>
        </p:sp>
        <p:sp>
          <p:nvSpPr>
            <p:cNvPr id="179" name="_s1030"/>
            <p:cNvSpPr/>
            <p:nvPr/>
          </p:nvSpPr>
          <p:spPr>
            <a:xfrm flipH="1">
              <a:off x="3061080" y="4183920"/>
              <a:ext cx="84384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6699"/>
                </a:solidFill>
                <a:latin typeface="Verdana"/>
              </a:endParaRPr>
            </a:p>
          </p:txBody>
        </p:sp>
        <p:sp>
          <p:nvSpPr>
            <p:cNvPr id="180" name="_s1031"/>
            <p:cNvSpPr/>
            <p:nvPr/>
          </p:nvSpPr>
          <p:spPr>
            <a:xfrm>
              <a:off x="1365120" y="3628800"/>
              <a:ext cx="1693080" cy="1111320"/>
            </a:xfrm>
            <a:prstGeom prst="ellipse">
              <a:avLst/>
            </a:prstGeom>
            <a:solidFill>
              <a:srgbClr val="1a0fff"/>
            </a:solidFill>
            <a:ln w="28440">
              <a:solidFill>
                <a:srgbClr val="0a00c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500" spc="-1" strike="noStrike">
                  <a:solidFill>
                    <a:srgbClr val="006699"/>
                  </a:solidFill>
                  <a:latin typeface="Arial"/>
                </a:rPr>
                <a:t>Келемеж күлкі</a:t>
              </a:r>
              <a:endParaRPr b="0" lang="en-US" sz="1500" spc="-1" strike="noStrike">
                <a:solidFill>
                  <a:srgbClr val="006699"/>
                </a:solidFill>
                <a:latin typeface="Verdana"/>
              </a:endParaRPr>
            </a:p>
          </p:txBody>
        </p:sp>
        <p:sp>
          <p:nvSpPr>
            <p:cNvPr id="181" name="_s1032"/>
            <p:cNvSpPr/>
            <p:nvPr/>
          </p:nvSpPr>
          <p:spPr>
            <a:xfrm flipH="1">
              <a:off x="3556080" y="4577400"/>
              <a:ext cx="597240" cy="39132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6699"/>
                </a:solidFill>
                <a:latin typeface="Verdana"/>
              </a:endParaRPr>
            </a:p>
          </p:txBody>
        </p:sp>
        <p:sp>
          <p:nvSpPr>
            <p:cNvPr id="182" name="_s1033"/>
            <p:cNvSpPr/>
            <p:nvPr/>
          </p:nvSpPr>
          <p:spPr>
            <a:xfrm>
              <a:off x="2109600" y="4807440"/>
              <a:ext cx="1693080" cy="1111320"/>
            </a:xfrm>
            <a:prstGeom prst="ellipse">
              <a:avLst/>
            </a:prstGeom>
            <a:solidFill>
              <a:srgbClr val="9966ff"/>
            </a:solidFill>
            <a:ln w="28440">
              <a:solidFill>
                <a:srgbClr val="5f0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500" spc="-1" strike="noStrike">
                  <a:solidFill>
                    <a:srgbClr val="006699"/>
                  </a:solidFill>
                  <a:latin typeface="Arial"/>
                </a:rPr>
                <a:t>Қулық күлкі</a:t>
              </a:r>
              <a:endParaRPr b="0" lang="en-US" sz="1500" spc="-1" strike="noStrike">
                <a:solidFill>
                  <a:srgbClr val="006699"/>
                </a:solidFill>
                <a:latin typeface="Verdana"/>
              </a:endParaRPr>
            </a:p>
          </p:txBody>
        </p:sp>
        <p:sp>
          <p:nvSpPr>
            <p:cNvPr id="183" name="_s1034"/>
            <p:cNvSpPr/>
            <p:nvPr/>
          </p:nvSpPr>
          <p:spPr>
            <a:xfrm>
              <a:off x="4752000" y="4739760"/>
              <a:ext cx="720" cy="554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6699"/>
                </a:solidFill>
                <a:latin typeface="Verdana"/>
              </a:endParaRPr>
            </a:p>
          </p:txBody>
        </p:sp>
        <p:sp>
          <p:nvSpPr>
            <p:cNvPr id="184" name="_s1035"/>
            <p:cNvSpPr/>
            <p:nvPr/>
          </p:nvSpPr>
          <p:spPr>
            <a:xfrm>
              <a:off x="3906360" y="5295600"/>
              <a:ext cx="1693080" cy="1111320"/>
            </a:xfrm>
            <a:prstGeom prst="ellipse">
              <a:avLst/>
            </a:prstGeom>
            <a:solidFill>
              <a:srgbClr val="ff00ff"/>
            </a:solidFill>
            <a:ln w="28440">
              <a:solidFill>
                <a:srgbClr val="ca00c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500" spc="-1" strike="noStrike">
                  <a:solidFill>
                    <a:srgbClr val="006699"/>
                  </a:solidFill>
                  <a:latin typeface="Arial"/>
                </a:rPr>
                <a:t>Жандал-баса күлкі</a:t>
              </a:r>
              <a:endParaRPr b="0" lang="en-US" sz="1500" spc="-1" strike="noStrike">
                <a:solidFill>
                  <a:srgbClr val="006699"/>
                </a:solidFill>
                <a:latin typeface="Verdana"/>
              </a:endParaRPr>
            </a:p>
          </p:txBody>
        </p:sp>
        <p:sp>
          <p:nvSpPr>
            <p:cNvPr id="185" name="_s1036"/>
            <p:cNvSpPr/>
            <p:nvPr/>
          </p:nvSpPr>
          <p:spPr>
            <a:xfrm>
              <a:off x="5351040" y="4576680"/>
              <a:ext cx="597240" cy="392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6699"/>
                </a:solidFill>
                <a:latin typeface="Verdana"/>
              </a:endParaRPr>
            </a:p>
          </p:txBody>
        </p:sp>
        <p:sp>
          <p:nvSpPr>
            <p:cNvPr id="186" name="_s1037"/>
            <p:cNvSpPr/>
            <p:nvPr/>
          </p:nvSpPr>
          <p:spPr>
            <a:xfrm>
              <a:off x="5701680" y="4807080"/>
              <a:ext cx="1693080" cy="1111320"/>
            </a:xfrm>
            <a:prstGeom prst="ellipse">
              <a:avLst/>
            </a:prstGeom>
            <a:solidFill>
              <a:srgbClr val="ff0000"/>
            </a:solidFill>
            <a:ln w="28440">
              <a:solidFill>
                <a:srgbClr val="be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500" spc="-1" strike="noStrike">
                  <a:solidFill>
                    <a:srgbClr val="006699"/>
                  </a:solidFill>
                  <a:latin typeface="Arial"/>
                </a:rPr>
                <a:t>Ақымақ күлкі</a:t>
              </a:r>
              <a:endParaRPr b="0" lang="en-US" sz="1500" spc="-1" strike="noStrike">
                <a:solidFill>
                  <a:srgbClr val="006699"/>
                </a:solidFill>
                <a:latin typeface="Verdana"/>
              </a:endParaRPr>
            </a:p>
          </p:txBody>
        </p:sp>
        <p:sp>
          <p:nvSpPr>
            <p:cNvPr id="187" name="_s1038"/>
            <p:cNvSpPr/>
            <p:nvPr/>
          </p:nvSpPr>
          <p:spPr>
            <a:xfrm>
              <a:off x="5598720" y="4183920"/>
              <a:ext cx="84564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6699"/>
                </a:solidFill>
                <a:latin typeface="Verdana"/>
              </a:endParaRPr>
            </a:p>
          </p:txBody>
        </p:sp>
        <p:sp>
          <p:nvSpPr>
            <p:cNvPr id="188" name="_s1039"/>
            <p:cNvSpPr/>
            <p:nvPr/>
          </p:nvSpPr>
          <p:spPr>
            <a:xfrm>
              <a:off x="6445440" y="3628080"/>
              <a:ext cx="1693080" cy="1111320"/>
            </a:xfrm>
            <a:prstGeom prst="ellipse">
              <a:avLst/>
            </a:prstGeom>
            <a:solidFill>
              <a:srgbClr val="01bd0a"/>
            </a:solidFill>
            <a:ln w="28440">
              <a:solidFill>
                <a:srgbClr val="019308"/>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500" spc="-1" strike="noStrike">
                  <a:solidFill>
                    <a:srgbClr val="006699"/>
                  </a:solidFill>
                  <a:latin typeface="Arial"/>
                </a:rPr>
                <a:t>Сын күлкі</a:t>
              </a:r>
              <a:endParaRPr b="0" lang="en-US" sz="1500" spc="-1" strike="noStrike">
                <a:solidFill>
                  <a:srgbClr val="006699"/>
                </a:solidFill>
                <a:latin typeface="Verdana"/>
              </a:endParaRPr>
            </a:p>
          </p:txBody>
        </p:sp>
        <p:sp>
          <p:nvSpPr>
            <p:cNvPr id="189" name="_s1040"/>
            <p:cNvSpPr/>
            <p:nvPr/>
          </p:nvSpPr>
          <p:spPr>
            <a:xfrm flipV="1">
              <a:off x="5350320" y="3398400"/>
              <a:ext cx="597960" cy="392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6699"/>
                </a:solidFill>
                <a:latin typeface="Verdana"/>
              </a:endParaRPr>
            </a:p>
          </p:txBody>
        </p:sp>
        <p:sp>
          <p:nvSpPr>
            <p:cNvPr id="190" name="_s1041"/>
            <p:cNvSpPr/>
            <p:nvPr/>
          </p:nvSpPr>
          <p:spPr>
            <a:xfrm>
              <a:off x="5700960" y="2449440"/>
              <a:ext cx="1693080" cy="1111320"/>
            </a:xfrm>
            <a:prstGeom prst="ellipse">
              <a:avLst/>
            </a:prstGeom>
            <a:solidFill>
              <a:srgbClr val="0399ff"/>
            </a:solidFill>
            <a:ln w="28440">
              <a:solidFill>
                <a:srgbClr val="4b595b"/>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500" spc="-1" strike="noStrike">
                  <a:solidFill>
                    <a:srgbClr val="006699"/>
                  </a:solidFill>
                  <a:latin typeface="Arial"/>
                </a:rPr>
                <a:t>Қылжаң күлкі</a:t>
              </a:r>
              <a:endParaRPr b="0" lang="en-US" sz="1500" spc="-1" strike="noStrike">
                <a:solidFill>
                  <a:srgbClr val="006699"/>
                </a:solidFill>
                <a:latin typeface="Verdana"/>
              </a:endParaRPr>
            </a:p>
          </p:txBody>
        </p:sp>
        <p:sp>
          <p:nvSpPr>
            <p:cNvPr id="191" name="_s1042"/>
            <p:cNvSpPr/>
            <p:nvPr/>
          </p:nvSpPr>
          <p:spPr>
            <a:xfrm flipV="1">
              <a:off x="4752000" y="3072960"/>
              <a:ext cx="0" cy="5558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6699"/>
                </a:solidFill>
                <a:latin typeface="Verdana"/>
              </a:endParaRPr>
            </a:p>
          </p:txBody>
        </p:sp>
        <p:sp>
          <p:nvSpPr>
            <p:cNvPr id="192" name="_s1043"/>
            <p:cNvSpPr/>
            <p:nvPr/>
          </p:nvSpPr>
          <p:spPr>
            <a:xfrm>
              <a:off x="3905280" y="1961280"/>
              <a:ext cx="1693080" cy="1111320"/>
            </a:xfrm>
            <a:prstGeom prst="ellipse">
              <a:avLst/>
            </a:prstGeom>
            <a:solidFill>
              <a:srgbClr val="ff8c01"/>
            </a:solidFill>
            <a:ln w="28440">
              <a:solidFill>
                <a:srgbClr val="d876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500" spc="-1" strike="noStrike">
                  <a:solidFill>
                    <a:srgbClr val="006699"/>
                  </a:solidFill>
                  <a:latin typeface="Arial"/>
                </a:rPr>
                <a:t>Сорлы күлкі</a:t>
              </a:r>
              <a:endParaRPr b="0" lang="en-US" sz="1500" spc="-1" strike="noStrike">
                <a:solidFill>
                  <a:srgbClr val="006699"/>
                </a:solidFill>
                <a:latin typeface="Verdana"/>
              </a:endParaRPr>
            </a:p>
          </p:txBody>
        </p:sp>
        <p:sp>
          <p:nvSpPr>
            <p:cNvPr id="193" name="_s1044"/>
            <p:cNvSpPr/>
            <p:nvPr/>
          </p:nvSpPr>
          <p:spPr>
            <a:xfrm>
              <a:off x="3905280" y="3628800"/>
              <a:ext cx="1693080" cy="1111320"/>
            </a:xfrm>
            <a:prstGeom prst="ellipse">
              <a:avLst/>
            </a:prstGeom>
            <a:solidFill>
              <a:srgbClr val="f1fd09"/>
            </a:solidFill>
            <a:ln w="28440">
              <a:solidFill>
                <a:srgbClr val="cad40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6699"/>
                  </a:solidFill>
                  <a:latin typeface="Georgia"/>
                </a:rPr>
                <a:t>Күлкі </a:t>
              </a:r>
              <a:endParaRPr b="0" lang="en-US" sz="2400" spc="-1" strike="noStrike">
                <a:solidFill>
                  <a:srgbClr val="006699"/>
                </a:solidFill>
                <a:latin typeface="Verdan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fffff"/>
            </a:gs>
            <a:gs pos="100000">
              <a:srgbClr val="66ffff"/>
            </a:gs>
          </a:gsLst>
          <a:lin ang="18900000"/>
        </a:gradFill>
      </p:bgPr>
    </p:bg>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0" y="0"/>
            <a:ext cx="9144000" cy="6858000"/>
          </a:xfrm>
          <a:prstGeom prst="rect">
            <a:avLst/>
          </a:prstGeom>
          <a:ln w="0">
            <a:noFill/>
          </a:ln>
        </p:spPr>
      </p:pic>
      <p:grpSp>
        <p:nvGrpSpPr>
          <p:cNvPr id="195" name="Organization Chart 4"/>
          <p:cNvGrpSpPr/>
          <p:nvPr/>
        </p:nvGrpSpPr>
        <p:grpSpPr>
          <a:xfrm>
            <a:off x="1095480" y="189000"/>
            <a:ext cx="7148160" cy="6192360"/>
            <a:chOff x="1095480" y="189000"/>
            <a:chExt cx="7148160" cy="6192360"/>
          </a:xfrm>
        </p:grpSpPr>
        <p:cxnSp>
          <p:nvCxnSpPr>
            <p:cNvPr id="196" name="_s2052"/>
            <p:cNvCxnSpPr>
              <a:stCxn id="197" idx="1"/>
              <a:endCxn id="198" idx="2"/>
            </p:cNvCxnSpPr>
            <p:nvPr/>
          </p:nvCxnSpPr>
          <p:spPr>
            <a:xfrm rot="10800000">
              <a:off x="3238920" y="1345320"/>
              <a:ext cx="697680" cy="4474800"/>
            </a:xfrm>
            <a:prstGeom prst="bentConnector2">
              <a:avLst/>
            </a:prstGeom>
            <a:ln w="9360">
              <a:solidFill>
                <a:srgbClr val="666699"/>
              </a:solidFill>
              <a:miter/>
            </a:ln>
          </p:spPr>
        </p:cxnSp>
        <p:cxnSp>
          <p:nvCxnSpPr>
            <p:cNvPr id="199" name="_s2053"/>
            <p:cNvCxnSpPr>
              <a:stCxn id="200" idx="1"/>
              <a:endCxn id="198" idx="2"/>
            </p:cNvCxnSpPr>
            <p:nvPr/>
          </p:nvCxnSpPr>
          <p:spPr>
            <a:xfrm rot="10800000">
              <a:off x="3238920" y="1345320"/>
              <a:ext cx="697680" cy="2784240"/>
            </a:xfrm>
            <a:prstGeom prst="bentConnector2">
              <a:avLst/>
            </a:prstGeom>
            <a:ln w="9360">
              <a:solidFill>
                <a:srgbClr val="666699"/>
              </a:solidFill>
              <a:miter/>
            </a:ln>
          </p:spPr>
        </p:cxnSp>
        <p:cxnSp>
          <p:nvCxnSpPr>
            <p:cNvPr id="201" name="_s2054"/>
            <p:cNvCxnSpPr>
              <a:stCxn id="202" idx="1"/>
              <a:endCxn id="198" idx="2"/>
            </p:cNvCxnSpPr>
            <p:nvPr/>
          </p:nvCxnSpPr>
          <p:spPr>
            <a:xfrm rot="10800000">
              <a:off x="3238920" y="1345320"/>
              <a:ext cx="697680" cy="1095120"/>
            </a:xfrm>
            <a:prstGeom prst="bentConnector2">
              <a:avLst/>
            </a:prstGeom>
            <a:ln w="9360">
              <a:solidFill>
                <a:srgbClr val="666699"/>
              </a:solidFill>
              <a:miter/>
            </a:ln>
          </p:spPr>
        </p:cxnSp>
        <p:sp>
          <p:nvSpPr>
            <p:cNvPr id="198" name="_s2055"/>
            <p:cNvSpPr/>
            <p:nvPr/>
          </p:nvSpPr>
          <p:spPr>
            <a:xfrm>
              <a:off x="1095480" y="189000"/>
              <a:ext cx="4289040" cy="1125720"/>
            </a:xfrm>
            <a:prstGeom prst="roundRect">
              <a:avLst>
                <a:gd name="adj" fmla="val 50000"/>
              </a:avLst>
            </a:prstGeom>
            <a:noFill/>
            <a:ln w="28440">
              <a:solidFill>
                <a:srgbClr val="a50021"/>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ff0066"/>
                  </a:solidFill>
                  <a:latin typeface="Georgia"/>
                </a:rPr>
                <a:t>Сатира</a:t>
              </a:r>
              <a:endParaRPr b="0" lang="en-US" sz="4400" spc="-1" strike="noStrike">
                <a:solidFill>
                  <a:srgbClr val="006699"/>
                </a:solidFill>
                <a:latin typeface="Verdana"/>
              </a:endParaRPr>
            </a:p>
          </p:txBody>
        </p:sp>
        <p:sp>
          <p:nvSpPr>
            <p:cNvPr id="202" name="_s2056"/>
            <p:cNvSpPr/>
            <p:nvPr/>
          </p:nvSpPr>
          <p:spPr>
            <a:xfrm>
              <a:off x="3954600" y="1877760"/>
              <a:ext cx="4289040" cy="1125720"/>
            </a:xfrm>
            <a:prstGeom prst="roundRect">
              <a:avLst>
                <a:gd name="adj" fmla="val 50000"/>
              </a:avLst>
            </a:prstGeom>
            <a:noFill/>
            <a:ln w="28440">
              <a:solidFill>
                <a:srgbClr val="4c6d8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Black"/>
                </a:rPr>
                <a:t>Көркем прозалық</a:t>
              </a:r>
              <a:r>
                <a:rPr b="1" i="1" lang="en-US" sz="1800" spc="-1" strike="noStrike">
                  <a:solidFill>
                    <a:srgbClr val="006699"/>
                  </a:solidFill>
                  <a:latin typeface="Arial Black"/>
                </a:rPr>
                <a:t> </a:t>
              </a:r>
              <a:r>
                <a:rPr b="1" i="1" lang="kk-KZ" sz="1800" spc="-1" strike="noStrike">
                  <a:solidFill>
                    <a:srgbClr val="006699"/>
                  </a:solidFill>
                  <a:latin typeface="Arial Black"/>
                </a:rPr>
                <a:t> жанр </a:t>
              </a:r>
              <a:r>
                <a:rPr b="1" i="1" lang="en-US" sz="1800" spc="-1" strike="noStrike">
                  <a:solidFill>
                    <a:srgbClr val="006699"/>
                  </a:solidFill>
                  <a:latin typeface="Arial Black"/>
                </a:rPr>
                <a:t>(сатиралық әңгіме, юморлы</a:t>
              </a:r>
              <a:r>
                <a:rPr b="1" i="1" lang="kk-KZ" sz="1800" spc="-1" strike="noStrike">
                  <a:solidFill>
                    <a:srgbClr val="006699"/>
                  </a:solidFill>
                  <a:latin typeface="Arial Black"/>
                </a:rPr>
                <a:t>қ</a:t>
              </a:r>
              <a:r>
                <a:rPr b="1" i="1" lang="en-US" sz="1800" spc="-1" strike="noStrike">
                  <a:solidFill>
                    <a:srgbClr val="006699"/>
                  </a:solidFill>
                  <a:latin typeface="Arial Black"/>
                </a:rPr>
                <a:t> әңгіме, сатиралық повесть, сатиралық роман)</a:t>
              </a:r>
              <a:endParaRPr b="0" lang="en-US" sz="1800" spc="-1" strike="noStrike">
                <a:solidFill>
                  <a:srgbClr val="006699"/>
                </a:solidFill>
                <a:latin typeface="Verdana"/>
              </a:endParaRPr>
            </a:p>
          </p:txBody>
        </p:sp>
        <p:sp>
          <p:nvSpPr>
            <p:cNvPr id="200" name="_s2057"/>
            <p:cNvSpPr/>
            <p:nvPr/>
          </p:nvSpPr>
          <p:spPr>
            <a:xfrm>
              <a:off x="3954600" y="3566520"/>
              <a:ext cx="4289040" cy="1125720"/>
            </a:xfrm>
            <a:prstGeom prst="roundRect">
              <a:avLst>
                <a:gd name="adj" fmla="val 50000"/>
              </a:avLst>
            </a:prstGeom>
            <a:noFill/>
            <a:ln w="28440">
              <a:solidFill>
                <a:srgbClr val="4c6d8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Black"/>
                </a:rPr>
                <a:t>Көркем-публицистикалық жанр</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Black"/>
                </a:rPr>
                <a:t>(фельетон, памфлет</a:t>
              </a:r>
              <a:r>
                <a:rPr b="1" i="1" lang="kk-KZ" sz="2500" spc="-1" strike="noStrike">
                  <a:solidFill>
                    <a:srgbClr val="006699"/>
                  </a:solidFill>
                  <a:latin typeface="Arial Black"/>
                </a:rPr>
                <a:t>)</a:t>
              </a:r>
              <a:endParaRPr b="0" lang="en-US" sz="2500" spc="-1" strike="noStrike">
                <a:solidFill>
                  <a:srgbClr val="006699"/>
                </a:solidFill>
                <a:latin typeface="Verdana"/>
              </a:endParaRPr>
            </a:p>
          </p:txBody>
        </p:sp>
        <p:sp>
          <p:nvSpPr>
            <p:cNvPr id="197" name="_s2058"/>
            <p:cNvSpPr/>
            <p:nvPr/>
          </p:nvSpPr>
          <p:spPr>
            <a:xfrm>
              <a:off x="3954600" y="5255640"/>
              <a:ext cx="4289040" cy="1125720"/>
            </a:xfrm>
            <a:prstGeom prst="roundRect">
              <a:avLst>
                <a:gd name="adj" fmla="val 50000"/>
              </a:avLst>
            </a:prstGeom>
            <a:noFill/>
            <a:ln w="28440">
              <a:solidFill>
                <a:srgbClr val="4c6d8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Black"/>
                </a:rPr>
                <a:t>Поэзияның шағын жанрлары (мысал, эпиграмма, пародия, сықақ өлең, шарж)</a:t>
              </a:r>
              <a:endParaRPr b="0" lang="en-US" sz="1800" spc="-1" strike="noStrike">
                <a:solidFill>
                  <a:srgbClr val="006699"/>
                </a:solidFill>
                <a:latin typeface="Verdan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Picture 2" descr=""/>
          <p:cNvPicPr/>
          <p:nvPr/>
        </p:nvPicPr>
        <p:blipFill>
          <a:blip r:embed="rId2"/>
          <a:stretch/>
        </p:blipFill>
        <p:spPr>
          <a:xfrm>
            <a:off x="0" y="0"/>
            <a:ext cx="9144000" cy="6858000"/>
          </a:xfrm>
          <a:prstGeom prst="rect">
            <a:avLst/>
          </a:prstGeom>
          <a:ln w="0">
            <a:noFill/>
          </a:ln>
        </p:spPr>
      </p:pic>
      <p:grpSp>
        <p:nvGrpSpPr>
          <p:cNvPr id="204" name="Organization Chart 4"/>
          <p:cNvGrpSpPr/>
          <p:nvPr/>
        </p:nvGrpSpPr>
        <p:grpSpPr>
          <a:xfrm>
            <a:off x="1079640" y="0"/>
            <a:ext cx="6516360" cy="6668640"/>
            <a:chOff x="1079640" y="0"/>
            <a:chExt cx="6516360" cy="6668640"/>
          </a:xfrm>
        </p:grpSpPr>
        <p:cxnSp>
          <p:nvCxnSpPr>
            <p:cNvPr id="205" name="_s3076"/>
            <p:cNvCxnSpPr>
              <a:stCxn id="206" idx="0"/>
              <a:endCxn id="207" idx="8"/>
            </p:cNvCxnSpPr>
            <p:nvPr/>
          </p:nvCxnSpPr>
          <p:spPr>
            <a:xfrm flipV="1">
              <a:off x="4989240" y="459360"/>
              <a:ext cx="651960" cy="5979600"/>
            </a:xfrm>
            <a:prstGeom prst="bentConnector2">
              <a:avLst/>
            </a:prstGeom>
            <a:ln w="9360">
              <a:solidFill>
                <a:srgbClr val="000000"/>
              </a:solidFill>
              <a:miter/>
            </a:ln>
          </p:spPr>
        </p:cxnSp>
        <p:cxnSp>
          <p:nvCxnSpPr>
            <p:cNvPr id="208" name="_s3077"/>
            <p:cNvCxnSpPr>
              <a:stCxn id="209" idx="0"/>
              <a:endCxn id="207" idx="7"/>
            </p:cNvCxnSpPr>
            <p:nvPr/>
          </p:nvCxnSpPr>
          <p:spPr>
            <a:xfrm flipV="1">
              <a:off x="4989240" y="459000"/>
              <a:ext cx="651960" cy="5290920"/>
            </a:xfrm>
            <a:prstGeom prst="bentConnector2">
              <a:avLst/>
            </a:prstGeom>
            <a:ln w="9360">
              <a:solidFill>
                <a:srgbClr val="000000"/>
              </a:solidFill>
              <a:miter/>
            </a:ln>
          </p:spPr>
        </p:cxnSp>
        <p:cxnSp>
          <p:nvCxnSpPr>
            <p:cNvPr id="210" name="_s3078"/>
            <p:cNvCxnSpPr>
              <a:stCxn id="211" idx="0"/>
              <a:endCxn id="207" idx="6"/>
            </p:cNvCxnSpPr>
            <p:nvPr/>
          </p:nvCxnSpPr>
          <p:spPr>
            <a:xfrm flipV="1">
              <a:off x="4989240" y="459360"/>
              <a:ext cx="651960" cy="4600800"/>
            </a:xfrm>
            <a:prstGeom prst="bentConnector2">
              <a:avLst/>
            </a:prstGeom>
            <a:ln w="9360">
              <a:solidFill>
                <a:srgbClr val="000000"/>
              </a:solidFill>
              <a:miter/>
            </a:ln>
          </p:spPr>
        </p:cxnSp>
        <p:cxnSp>
          <p:nvCxnSpPr>
            <p:cNvPr id="212" name="_s3079"/>
            <p:cNvCxnSpPr>
              <a:stCxn id="213" idx="0"/>
              <a:endCxn id="207" idx="5"/>
            </p:cNvCxnSpPr>
            <p:nvPr/>
          </p:nvCxnSpPr>
          <p:spPr>
            <a:xfrm flipV="1">
              <a:off x="4989240" y="459000"/>
              <a:ext cx="651960" cy="3911400"/>
            </a:xfrm>
            <a:prstGeom prst="bentConnector2">
              <a:avLst/>
            </a:prstGeom>
            <a:ln w="9360">
              <a:solidFill>
                <a:srgbClr val="000000"/>
              </a:solidFill>
              <a:miter/>
            </a:ln>
          </p:spPr>
        </p:cxnSp>
        <p:cxnSp>
          <p:nvCxnSpPr>
            <p:cNvPr id="214" name="_s3080"/>
            <p:cNvCxnSpPr>
              <a:stCxn id="215" idx="0"/>
              <a:endCxn id="207" idx="4"/>
            </p:cNvCxnSpPr>
            <p:nvPr/>
          </p:nvCxnSpPr>
          <p:spPr>
            <a:xfrm flipV="1">
              <a:off x="4989240" y="459360"/>
              <a:ext cx="651960" cy="3221280"/>
            </a:xfrm>
            <a:prstGeom prst="bentConnector2">
              <a:avLst/>
            </a:prstGeom>
            <a:ln w="9360">
              <a:solidFill>
                <a:srgbClr val="000000"/>
              </a:solidFill>
              <a:miter/>
            </a:ln>
          </p:spPr>
        </p:cxnSp>
        <p:cxnSp>
          <p:nvCxnSpPr>
            <p:cNvPr id="216" name="_s3081"/>
            <p:cNvCxnSpPr>
              <a:stCxn id="217" idx="0"/>
              <a:endCxn id="207" idx="3"/>
            </p:cNvCxnSpPr>
            <p:nvPr/>
          </p:nvCxnSpPr>
          <p:spPr>
            <a:xfrm flipV="1">
              <a:off x="4989240" y="459360"/>
              <a:ext cx="651960" cy="2530080"/>
            </a:xfrm>
            <a:prstGeom prst="bentConnector2">
              <a:avLst/>
            </a:prstGeom>
            <a:ln w="9360">
              <a:solidFill>
                <a:srgbClr val="000000"/>
              </a:solidFill>
              <a:miter/>
            </a:ln>
          </p:spPr>
        </p:cxnSp>
        <p:cxnSp>
          <p:nvCxnSpPr>
            <p:cNvPr id="218" name="_s3082"/>
            <p:cNvCxnSpPr>
              <a:stCxn id="219" idx="0"/>
              <a:endCxn id="207" idx="2"/>
            </p:cNvCxnSpPr>
            <p:nvPr/>
          </p:nvCxnSpPr>
          <p:spPr>
            <a:xfrm flipV="1">
              <a:off x="4989240" y="459000"/>
              <a:ext cx="651960" cy="1839960"/>
            </a:xfrm>
            <a:prstGeom prst="bentConnector2">
              <a:avLst/>
            </a:prstGeom>
            <a:ln w="9360">
              <a:solidFill>
                <a:srgbClr val="000000"/>
              </a:solidFill>
              <a:miter/>
            </a:ln>
          </p:spPr>
        </p:cxnSp>
        <p:cxnSp>
          <p:nvCxnSpPr>
            <p:cNvPr id="220" name="_s3083"/>
            <p:cNvCxnSpPr>
              <a:stCxn id="221" idx="0"/>
              <a:endCxn id="207" idx="1"/>
            </p:cNvCxnSpPr>
            <p:nvPr/>
          </p:nvCxnSpPr>
          <p:spPr>
            <a:xfrm flipV="1">
              <a:off x="4989240" y="459360"/>
              <a:ext cx="651960" cy="1150560"/>
            </a:xfrm>
            <a:prstGeom prst="bentConnector2">
              <a:avLst/>
            </a:prstGeom>
            <a:ln w="9360">
              <a:solidFill>
                <a:srgbClr val="000000"/>
              </a:solidFill>
              <a:miter/>
            </a:ln>
          </p:spPr>
        </p:cxnSp>
        <p:cxnSp>
          <p:nvCxnSpPr>
            <p:cNvPr id="222" name="_s3084"/>
            <p:cNvCxnSpPr>
              <a:stCxn id="223" idx="0"/>
              <a:endCxn id="207" idx="0"/>
            </p:cNvCxnSpPr>
            <p:nvPr/>
          </p:nvCxnSpPr>
          <p:spPr>
            <a:xfrm flipV="1">
              <a:off x="4989240" y="459000"/>
              <a:ext cx="651960" cy="460440"/>
            </a:xfrm>
            <a:prstGeom prst="bentConnector2">
              <a:avLst/>
            </a:prstGeom>
            <a:ln w="9360">
              <a:solidFill>
                <a:srgbClr val="000000"/>
              </a:solidFill>
              <a:miter/>
            </a:ln>
          </p:spPr>
        </p:cxnSp>
        <p:sp>
          <p:nvSpPr>
            <p:cNvPr id="207" name="_s3085"/>
            <p:cNvSpPr/>
            <p:nvPr/>
          </p:nvSpPr>
          <p:spPr>
            <a:xfrm>
              <a:off x="3686040" y="0"/>
              <a:ext cx="3909960" cy="459720"/>
            </a:xfrm>
            <a:prstGeom prst="bevel">
              <a:avLst>
                <a:gd name="adj" fmla="val 12500"/>
              </a:avLst>
            </a:prstGeom>
            <a:gradFill rotWithShape="0">
              <a:gsLst>
                <a:gs pos="0">
                  <a:srgbClr val="cccc00"/>
                </a:gs>
                <a:gs pos="50000">
                  <a:srgbClr val="ffffff"/>
                </a:gs>
                <a:gs pos="100000">
                  <a:srgbClr val="cccc00"/>
                </a:gs>
              </a:gsLst>
              <a:lin ang="8100000"/>
            </a:gradFill>
            <a:ln w="3240">
              <a:solidFill>
                <a:srgbClr val="cccc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300" spc="-1" strike="noStrike">
                  <a:solidFill>
                    <a:srgbClr val="993300"/>
                  </a:solidFill>
                  <a:latin typeface="Georgia"/>
                </a:rPr>
                <a:t>Сықақ өлеңдері</a:t>
              </a:r>
              <a:endParaRPr b="0" lang="en-US" sz="2300" spc="-1" strike="noStrike">
                <a:solidFill>
                  <a:srgbClr val="006699"/>
                </a:solidFill>
                <a:latin typeface="Verdana"/>
              </a:endParaRPr>
            </a:p>
          </p:txBody>
        </p:sp>
        <p:sp>
          <p:nvSpPr>
            <p:cNvPr id="223" name="_s3086"/>
            <p:cNvSpPr/>
            <p:nvPr/>
          </p:nvSpPr>
          <p:spPr>
            <a:xfrm>
              <a:off x="1079640" y="689760"/>
              <a:ext cx="3909960" cy="459720"/>
            </a:xfrm>
            <a:prstGeom prst="bevel">
              <a:avLst>
                <a:gd name="adj" fmla="val 12500"/>
              </a:avLst>
            </a:prstGeom>
            <a:gradFill rotWithShape="0">
              <a:gsLst>
                <a:gs pos="0">
                  <a:srgbClr val="669999"/>
                </a:gs>
                <a:gs pos="50000">
                  <a:srgbClr val="ffffff"/>
                </a:gs>
                <a:gs pos="100000">
                  <a:srgbClr val="669999"/>
                </a:gs>
              </a:gsLst>
              <a:lin ang="8100000"/>
            </a:gradFill>
            <a:ln w="3240">
              <a:solidFill>
                <a:srgbClr val="6699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ff"/>
                  </a:solidFill>
                  <a:latin typeface="Tahoma"/>
                </a:rPr>
                <a:t>Ішімдікке әуестік</a:t>
              </a:r>
              <a:r>
                <a:rPr b="0" lang="kk-KZ" sz="1200" spc="-1" strike="noStrike">
                  <a:solidFill>
                    <a:srgbClr val="0000ff"/>
                  </a:solidFill>
                  <a:latin typeface="Arial"/>
                </a:rPr>
                <a:t> </a:t>
              </a:r>
              <a:endParaRPr b="0" lang="en-US" sz="1200" spc="-1" strike="noStrike">
                <a:solidFill>
                  <a:srgbClr val="006699"/>
                </a:solidFill>
                <a:latin typeface="Verdana"/>
              </a:endParaRPr>
            </a:p>
          </p:txBody>
        </p:sp>
        <p:sp>
          <p:nvSpPr>
            <p:cNvPr id="221" name="_s3087"/>
            <p:cNvSpPr/>
            <p:nvPr/>
          </p:nvSpPr>
          <p:spPr>
            <a:xfrm>
              <a:off x="1079640" y="1379880"/>
              <a:ext cx="3909960" cy="459720"/>
            </a:xfrm>
            <a:prstGeom prst="bevel">
              <a:avLst>
                <a:gd name="adj" fmla="val 12500"/>
              </a:avLst>
            </a:prstGeom>
            <a:gradFill rotWithShape="0">
              <a:gsLst>
                <a:gs pos="0">
                  <a:srgbClr val="669999"/>
                </a:gs>
                <a:gs pos="50000">
                  <a:srgbClr val="ffffff"/>
                </a:gs>
                <a:gs pos="100000">
                  <a:srgbClr val="669999"/>
                </a:gs>
              </a:gsLst>
              <a:lin ang="8100000"/>
            </a:gradFill>
            <a:ln w="3240">
              <a:solidFill>
                <a:srgbClr val="6699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ff"/>
                  </a:solidFill>
                  <a:latin typeface="Arial"/>
                </a:rPr>
                <a:t>Ар-ұят, алаяқтық</a:t>
              </a:r>
              <a:endParaRPr b="0" lang="en-US" sz="1200" spc="-1" strike="noStrike">
                <a:solidFill>
                  <a:srgbClr val="006699"/>
                </a:solidFill>
                <a:latin typeface="Verdana"/>
              </a:endParaRPr>
            </a:p>
          </p:txBody>
        </p:sp>
        <p:sp>
          <p:nvSpPr>
            <p:cNvPr id="219" name="_s3088"/>
            <p:cNvSpPr/>
            <p:nvPr/>
          </p:nvSpPr>
          <p:spPr>
            <a:xfrm>
              <a:off x="1079640" y="2070000"/>
              <a:ext cx="3909960" cy="459720"/>
            </a:xfrm>
            <a:prstGeom prst="bevel">
              <a:avLst>
                <a:gd name="adj" fmla="val 12500"/>
              </a:avLst>
            </a:prstGeom>
            <a:gradFill rotWithShape="0">
              <a:gsLst>
                <a:gs pos="0">
                  <a:srgbClr val="669999"/>
                </a:gs>
                <a:gs pos="50000">
                  <a:srgbClr val="ffffff"/>
                </a:gs>
                <a:gs pos="100000">
                  <a:srgbClr val="669999"/>
                </a:gs>
              </a:gsLst>
              <a:lin ang="8100000"/>
            </a:gradFill>
            <a:ln w="3240">
              <a:solidFill>
                <a:srgbClr val="6699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ff"/>
                  </a:solidFill>
                  <a:latin typeface="Arial"/>
                </a:rPr>
                <a:t>Арамдық, көре алмаушылық</a:t>
              </a:r>
              <a:endParaRPr b="0" lang="en-US" sz="1200" spc="-1" strike="noStrike">
                <a:solidFill>
                  <a:srgbClr val="006699"/>
                </a:solidFill>
                <a:latin typeface="Verdana"/>
              </a:endParaRPr>
            </a:p>
          </p:txBody>
        </p:sp>
        <p:sp>
          <p:nvSpPr>
            <p:cNvPr id="217" name="_s3089"/>
            <p:cNvSpPr/>
            <p:nvPr/>
          </p:nvSpPr>
          <p:spPr>
            <a:xfrm>
              <a:off x="1079640" y="2760120"/>
              <a:ext cx="3909960" cy="459720"/>
            </a:xfrm>
            <a:prstGeom prst="bevel">
              <a:avLst>
                <a:gd name="adj" fmla="val 12500"/>
              </a:avLst>
            </a:prstGeom>
            <a:gradFill rotWithShape="0">
              <a:gsLst>
                <a:gs pos="0">
                  <a:srgbClr val="669999"/>
                </a:gs>
                <a:gs pos="50000">
                  <a:srgbClr val="ffffff"/>
                </a:gs>
                <a:gs pos="100000">
                  <a:srgbClr val="669999"/>
                </a:gs>
              </a:gsLst>
              <a:lin ang="8100000"/>
            </a:gradFill>
            <a:ln w="3240">
              <a:solidFill>
                <a:srgbClr val="6699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ff"/>
                  </a:solidFill>
                  <a:latin typeface="Arial"/>
                </a:rPr>
                <a:t>Дүниеқорлық</a:t>
              </a:r>
              <a:endParaRPr b="0" lang="en-US" sz="1200" spc="-1" strike="noStrike">
                <a:solidFill>
                  <a:srgbClr val="006699"/>
                </a:solidFill>
                <a:latin typeface="Verdana"/>
              </a:endParaRPr>
            </a:p>
          </p:txBody>
        </p:sp>
        <p:sp>
          <p:nvSpPr>
            <p:cNvPr id="215" name="_s3090"/>
            <p:cNvSpPr/>
            <p:nvPr/>
          </p:nvSpPr>
          <p:spPr>
            <a:xfrm>
              <a:off x="1079640" y="3449880"/>
              <a:ext cx="3909960" cy="459720"/>
            </a:xfrm>
            <a:prstGeom prst="bevel">
              <a:avLst>
                <a:gd name="adj" fmla="val 12500"/>
              </a:avLst>
            </a:prstGeom>
            <a:gradFill rotWithShape="0">
              <a:gsLst>
                <a:gs pos="0">
                  <a:srgbClr val="669999"/>
                </a:gs>
                <a:gs pos="50000">
                  <a:srgbClr val="ffffff"/>
                </a:gs>
                <a:gs pos="100000">
                  <a:srgbClr val="669999"/>
                </a:gs>
              </a:gsLst>
              <a:lin ang="8100000"/>
            </a:gradFill>
            <a:ln w="3240">
              <a:solidFill>
                <a:srgbClr val="6699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ff"/>
                  </a:solidFill>
                  <a:latin typeface="Arial"/>
                </a:rPr>
                <a:t>Жағымпаздық</a:t>
              </a:r>
              <a:endParaRPr b="0" lang="en-US" sz="1200" spc="-1" strike="noStrike">
                <a:solidFill>
                  <a:srgbClr val="006699"/>
                </a:solidFill>
                <a:latin typeface="Verdana"/>
              </a:endParaRPr>
            </a:p>
          </p:txBody>
        </p:sp>
        <p:sp>
          <p:nvSpPr>
            <p:cNvPr id="213" name="_s3091"/>
            <p:cNvSpPr/>
            <p:nvPr/>
          </p:nvSpPr>
          <p:spPr>
            <a:xfrm>
              <a:off x="1079640" y="4140360"/>
              <a:ext cx="3909960" cy="459720"/>
            </a:xfrm>
            <a:prstGeom prst="bevel">
              <a:avLst>
                <a:gd name="adj" fmla="val 12500"/>
              </a:avLst>
            </a:prstGeom>
            <a:gradFill rotWithShape="0">
              <a:gsLst>
                <a:gs pos="0">
                  <a:srgbClr val="669999"/>
                </a:gs>
                <a:gs pos="50000">
                  <a:srgbClr val="ffffff"/>
                </a:gs>
                <a:gs pos="100000">
                  <a:srgbClr val="669999"/>
                </a:gs>
              </a:gsLst>
              <a:lin ang="8100000"/>
            </a:gradFill>
            <a:ln w="3240">
              <a:solidFill>
                <a:srgbClr val="6699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ff"/>
                  </a:solidFill>
                  <a:latin typeface="Arial"/>
                </a:rPr>
                <a:t>Жемқорлық, парақорлық, азғыру</a:t>
              </a:r>
              <a:endParaRPr b="0" lang="en-US" sz="1200" spc="-1" strike="noStrike">
                <a:solidFill>
                  <a:srgbClr val="006699"/>
                </a:solidFill>
                <a:latin typeface="Verdana"/>
              </a:endParaRPr>
            </a:p>
          </p:txBody>
        </p:sp>
        <p:sp>
          <p:nvSpPr>
            <p:cNvPr id="211" name="_s3092"/>
            <p:cNvSpPr/>
            <p:nvPr/>
          </p:nvSpPr>
          <p:spPr>
            <a:xfrm>
              <a:off x="1079640" y="4830120"/>
              <a:ext cx="3909960" cy="459720"/>
            </a:xfrm>
            <a:prstGeom prst="bevel">
              <a:avLst>
                <a:gd name="adj" fmla="val 12500"/>
              </a:avLst>
            </a:prstGeom>
            <a:gradFill rotWithShape="0">
              <a:gsLst>
                <a:gs pos="0">
                  <a:srgbClr val="669999"/>
                </a:gs>
                <a:gs pos="50000">
                  <a:srgbClr val="ffffff"/>
                </a:gs>
                <a:gs pos="100000">
                  <a:srgbClr val="669999"/>
                </a:gs>
              </a:gsLst>
              <a:lin ang="8100000"/>
            </a:gradFill>
            <a:ln w="3240">
              <a:solidFill>
                <a:srgbClr val="6699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ff"/>
                  </a:solidFill>
                  <a:latin typeface="Arial"/>
                </a:rPr>
                <a:t>Арамдық, жетесіздік, топастық, пәтуасыздық,  сауатсыздық,  тәлім-тәрбие</a:t>
              </a:r>
              <a:endParaRPr b="0" lang="en-US" sz="1200" spc="-1" strike="noStrike">
                <a:solidFill>
                  <a:srgbClr val="006699"/>
                </a:solidFill>
                <a:latin typeface="Verdana"/>
              </a:endParaRPr>
            </a:p>
          </p:txBody>
        </p:sp>
        <p:sp>
          <p:nvSpPr>
            <p:cNvPr id="209" name="_s3093"/>
            <p:cNvSpPr/>
            <p:nvPr/>
          </p:nvSpPr>
          <p:spPr>
            <a:xfrm>
              <a:off x="1079640" y="5520240"/>
              <a:ext cx="3909960" cy="459000"/>
            </a:xfrm>
            <a:prstGeom prst="bevel">
              <a:avLst>
                <a:gd name="adj" fmla="val 12500"/>
              </a:avLst>
            </a:prstGeom>
            <a:gradFill rotWithShape="0">
              <a:gsLst>
                <a:gs pos="0">
                  <a:srgbClr val="669999"/>
                </a:gs>
                <a:gs pos="50000">
                  <a:srgbClr val="ffffff"/>
                </a:gs>
                <a:gs pos="100000">
                  <a:srgbClr val="669999"/>
                </a:gs>
              </a:gsLst>
              <a:lin ang="8100000"/>
            </a:gradFill>
            <a:ln w="3240">
              <a:solidFill>
                <a:srgbClr val="6699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ff"/>
                  </a:solidFill>
                  <a:latin typeface="Arial"/>
                </a:rPr>
                <a:t>Жеңіл мінез, өсек, іштарлық, мақтаншақтық</a:t>
              </a:r>
              <a:endParaRPr b="0" lang="en-US" sz="1200" spc="-1" strike="noStrike">
                <a:solidFill>
                  <a:srgbClr val="006699"/>
                </a:solidFill>
                <a:latin typeface="Verdana"/>
              </a:endParaRPr>
            </a:p>
          </p:txBody>
        </p:sp>
        <p:sp>
          <p:nvSpPr>
            <p:cNvPr id="206" name="_s3094"/>
            <p:cNvSpPr/>
            <p:nvPr/>
          </p:nvSpPr>
          <p:spPr>
            <a:xfrm>
              <a:off x="1079640" y="6209640"/>
              <a:ext cx="3909960" cy="459000"/>
            </a:xfrm>
            <a:prstGeom prst="bevel">
              <a:avLst>
                <a:gd name="adj" fmla="val 12500"/>
              </a:avLst>
            </a:prstGeom>
            <a:gradFill rotWithShape="0">
              <a:gsLst>
                <a:gs pos="0">
                  <a:srgbClr val="669999"/>
                </a:gs>
                <a:gs pos="50000">
                  <a:srgbClr val="ffffff"/>
                </a:gs>
                <a:gs pos="100000">
                  <a:srgbClr val="669999"/>
                </a:gs>
              </a:gsLst>
              <a:lin ang="8100000"/>
            </a:gradFill>
            <a:ln w="3240">
              <a:solidFill>
                <a:srgbClr val="669999"/>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ff"/>
                  </a:solidFill>
                  <a:latin typeface="Arial"/>
                </a:rPr>
                <a:t>Жатыпішер, арамтамақтық</a:t>
              </a:r>
              <a:endParaRPr b="0" lang="en-US" sz="1200" spc="-1" strike="noStrike">
                <a:solidFill>
                  <a:srgbClr val="006699"/>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WordArt 10"/>
          <p:cNvSpPr txBox="1"/>
          <p:nvPr/>
        </p:nvSpPr>
        <p:spPr>
          <a:xfrm>
            <a:off x="2411280" y="2852640"/>
            <a:ext cx="489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660066">
                    <a:alpha val="50000"/>
                  </a:srgbClr>
                </a:solidFill>
                <a:effectLst>
                  <a:outerShdw dist="40186" dir="1096358" blurRad="0" rotWithShape="0">
                    <a:srgbClr val="9999ff"/>
                  </a:outerShdw>
                </a:effectLst>
                <a:latin typeface="Arial"/>
              </a:rPr>
              <a:t>Ішімдікке әуестік</a:t>
            </a:r>
            <a:endParaRPr b="1" lang="en-US" sz="1800" spc="1" strike="noStrike">
              <a:ln w="12600">
                <a:solidFill>
                  <a:srgbClr val="3333cc"/>
                </a:solidFill>
                <a:miter/>
              </a:ln>
              <a:solidFill>
                <a:srgbClr val="660066">
                  <a:alpha val="50000"/>
                </a:srgbClr>
              </a:solidFill>
              <a:effectLst>
                <a:outerShdw dist="40186" dir="1096358" blurRad="0" rotWithShape="0">
                  <a:srgbClr val="9999ff"/>
                </a:outerShdw>
              </a:effectLst>
              <a:latin typeface="Arial"/>
              <a:ea typeface="Arial"/>
            </a:endParaRPr>
          </a:p>
        </p:txBody>
      </p:sp>
      <p:sp>
        <p:nvSpPr>
          <p:cNvPr id="225" name="Line 16"/>
          <p:cNvSpPr/>
          <p:nvPr/>
        </p:nvSpPr>
        <p:spPr>
          <a:xfrm>
            <a:off x="2627280" y="3141720"/>
            <a:ext cx="0" cy="0"/>
          </a:xfrm>
          <a:prstGeom prst="line">
            <a:avLst/>
          </a:prstGeom>
          <a:ln w="93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26" name="AutoShape 24"/>
          <p:cNvSpPr/>
          <p:nvPr/>
        </p:nvSpPr>
        <p:spPr>
          <a:xfrm>
            <a:off x="4427640" y="189000"/>
            <a:ext cx="4319640" cy="761760"/>
          </a:xfrm>
          <a:custGeom>
            <a:avLst/>
            <a:gdLst>
              <a:gd name="textAreaLeft" fmla="*/ 1080000 w 4319640"/>
              <a:gd name="textAreaRight" fmla="*/ 3240000 w 4319640"/>
              <a:gd name="textAreaTop" fmla="*/ 190440 h 761760"/>
              <a:gd name="textAreaBottom" fmla="*/ 739440 h 7617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00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7" name="AutoShape 25"/>
          <p:cNvSpPr/>
          <p:nvPr/>
        </p:nvSpPr>
        <p:spPr>
          <a:xfrm>
            <a:off x="324000" y="5661000"/>
            <a:ext cx="4211640" cy="934920"/>
          </a:xfrm>
          <a:custGeom>
            <a:avLst/>
            <a:gdLst>
              <a:gd name="textAreaLeft" fmla="*/ 1053000 w 4211640"/>
              <a:gd name="textAreaRight" fmla="*/ 3159000 w 4211640"/>
              <a:gd name="textAreaTop" fmla="*/ 233640 h 934920"/>
              <a:gd name="textAreaBottom" fmla="*/ 907560 h 9349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cc99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8" name="AutoShape 26"/>
          <p:cNvSpPr/>
          <p:nvPr/>
        </p:nvSpPr>
        <p:spPr>
          <a:xfrm>
            <a:off x="0" y="1989000"/>
            <a:ext cx="3743280" cy="762120"/>
          </a:xfrm>
          <a:custGeom>
            <a:avLst/>
            <a:gdLst>
              <a:gd name="textAreaLeft" fmla="*/ 935640 w 3743280"/>
              <a:gd name="textAreaRight" fmla="*/ 2807640 w 3743280"/>
              <a:gd name="textAreaTop" fmla="*/ 190440 h 762120"/>
              <a:gd name="textAreaBottom" fmla="*/ 739800 h 7621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0000"/>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9" name="AutoShape 27"/>
          <p:cNvSpPr/>
          <p:nvPr/>
        </p:nvSpPr>
        <p:spPr>
          <a:xfrm>
            <a:off x="4211640" y="5157720"/>
            <a:ext cx="4535640" cy="762120"/>
          </a:xfrm>
          <a:custGeom>
            <a:avLst/>
            <a:gdLst>
              <a:gd name="textAreaLeft" fmla="*/ 1134000 w 4535640"/>
              <a:gd name="textAreaRight" fmla="*/ 3402000 w 4535640"/>
              <a:gd name="textAreaTop" fmla="*/ 190440 h 762120"/>
              <a:gd name="textAreaBottom" fmla="*/ 739800 h 7621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99cc00"/>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0" name="Text Box 28"/>
          <p:cNvSpPr/>
          <p:nvPr/>
        </p:nvSpPr>
        <p:spPr>
          <a:xfrm>
            <a:off x="5292720" y="544500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Беделді документ</a:t>
            </a:r>
            <a:endParaRPr b="0" lang="en-US" sz="1800" spc="-1" strike="noStrike">
              <a:solidFill>
                <a:srgbClr val="006699"/>
              </a:solidFill>
              <a:latin typeface="Verdana"/>
            </a:endParaRPr>
          </a:p>
        </p:txBody>
      </p:sp>
      <p:sp>
        <p:nvSpPr>
          <p:cNvPr id="231" name="Text Box 29"/>
          <p:cNvSpPr/>
          <p:nvPr/>
        </p:nvSpPr>
        <p:spPr>
          <a:xfrm>
            <a:off x="900000" y="2276640"/>
            <a:ext cx="30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Әке мен бала</a:t>
            </a:r>
            <a:endParaRPr b="0" lang="en-US" sz="1800" spc="-1" strike="noStrike">
              <a:solidFill>
                <a:srgbClr val="006699"/>
              </a:solidFill>
              <a:latin typeface="Verdana"/>
            </a:endParaRPr>
          </a:p>
        </p:txBody>
      </p:sp>
      <p:sp>
        <p:nvSpPr>
          <p:cNvPr id="232" name="Text Box 31"/>
          <p:cNvSpPr/>
          <p:nvPr/>
        </p:nvSpPr>
        <p:spPr>
          <a:xfrm>
            <a:off x="5651640" y="40464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Арақ пен қымыз</a:t>
            </a:r>
            <a:endParaRPr b="0" lang="en-US" sz="1800" spc="-1" strike="noStrike">
              <a:solidFill>
                <a:srgbClr val="006699"/>
              </a:solidFill>
              <a:latin typeface="Verdana"/>
            </a:endParaRPr>
          </a:p>
        </p:txBody>
      </p:sp>
      <p:sp>
        <p:nvSpPr>
          <p:cNvPr id="233" name="Text Box 32"/>
          <p:cNvSpPr/>
          <p:nvPr/>
        </p:nvSpPr>
        <p:spPr>
          <a:xfrm>
            <a:off x="1332000" y="602136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   </a:t>
            </a:r>
            <a:r>
              <a:rPr b="1" lang="kk-KZ" sz="1800" spc="-1" strike="noStrike">
                <a:solidFill>
                  <a:srgbClr val="006699"/>
                </a:solidFill>
                <a:latin typeface="Arial"/>
              </a:rPr>
              <a:t>Ауыр науқас</a:t>
            </a:r>
            <a:endParaRPr b="0" lang="en-US" sz="1800" spc="-1" strike="noStrike">
              <a:solidFill>
                <a:srgbClr val="006699"/>
              </a:solidFill>
              <a:latin typeface="Verdana"/>
            </a:endParaRPr>
          </a:p>
        </p:txBody>
      </p:sp>
      <p:sp>
        <p:nvSpPr>
          <p:cNvPr id="234" name="AutoShape 34"/>
          <p:cNvSpPr/>
          <p:nvPr/>
        </p:nvSpPr>
        <p:spPr>
          <a:xfrm>
            <a:off x="324000" y="476280"/>
            <a:ext cx="4066920" cy="762120"/>
          </a:xfrm>
          <a:custGeom>
            <a:avLst/>
            <a:gdLst>
              <a:gd name="textAreaLeft" fmla="*/ 1016640 w 4066920"/>
              <a:gd name="textAreaRight" fmla="*/ 3050280 w 4066920"/>
              <a:gd name="textAreaTop" fmla="*/ 190440 h 762120"/>
              <a:gd name="textAreaBottom" fmla="*/ 739800 h 7621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5" name="AutoShape 35"/>
          <p:cNvSpPr/>
          <p:nvPr/>
        </p:nvSpPr>
        <p:spPr>
          <a:xfrm>
            <a:off x="3564000" y="1341360"/>
            <a:ext cx="5580000" cy="1008000"/>
          </a:xfrm>
          <a:custGeom>
            <a:avLst/>
            <a:gdLst>
              <a:gd name="textAreaLeft" fmla="*/ 1395000 w 5580000"/>
              <a:gd name="textAreaRight" fmla="*/ 4185000 w 5580000"/>
              <a:gd name="textAreaTop" fmla="*/ 252000 h 1008000"/>
              <a:gd name="textAreaBottom" fmla="*/ 978480 h 10080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ffff"/>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6" name="AutoShape 36"/>
          <p:cNvSpPr/>
          <p:nvPr/>
        </p:nvSpPr>
        <p:spPr>
          <a:xfrm>
            <a:off x="468360" y="3860640"/>
            <a:ext cx="5184720" cy="792360"/>
          </a:xfrm>
          <a:custGeom>
            <a:avLst/>
            <a:gdLst>
              <a:gd name="textAreaLeft" fmla="*/ 1296000 w 5184720"/>
              <a:gd name="textAreaRight" fmla="*/ 3888720 w 5184720"/>
              <a:gd name="textAreaTop" fmla="*/ 198000 h 792360"/>
              <a:gd name="textAreaBottom" fmla="*/ 768960 h 79236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cc00"/>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37" name="Text Box 37"/>
          <p:cNvSpPr/>
          <p:nvPr/>
        </p:nvSpPr>
        <p:spPr>
          <a:xfrm>
            <a:off x="1908000" y="422100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Құдай</a:t>
            </a:r>
            <a:r>
              <a:rPr b="0" lang="kk-KZ" sz="1800" spc="-1" strike="noStrike">
                <a:solidFill>
                  <a:srgbClr val="006699"/>
                </a:solidFill>
                <a:latin typeface="Arial"/>
              </a:rPr>
              <a:t> </a:t>
            </a:r>
            <a:r>
              <a:rPr b="1" lang="kk-KZ" sz="1800" spc="-1" strike="noStrike">
                <a:solidFill>
                  <a:srgbClr val="006699"/>
                </a:solidFill>
                <a:latin typeface="Arial"/>
              </a:rPr>
              <a:t>бізді ұрыпты</a:t>
            </a:r>
            <a:endParaRPr b="0" lang="en-US" sz="1800" spc="-1" strike="noStrike">
              <a:solidFill>
                <a:srgbClr val="006699"/>
              </a:solidFill>
              <a:latin typeface="Verdana"/>
            </a:endParaRPr>
          </a:p>
        </p:txBody>
      </p:sp>
      <p:sp>
        <p:nvSpPr>
          <p:cNvPr id="238" name="Text Box 38"/>
          <p:cNvSpPr/>
          <p:nvPr/>
        </p:nvSpPr>
        <p:spPr>
          <a:xfrm>
            <a:off x="5076720" y="1700280"/>
            <a:ext cx="3240360" cy="561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6699"/>
                </a:solidFill>
                <a:latin typeface="Arial"/>
              </a:rPr>
              <a:t>Насыбай </a:t>
            </a:r>
            <a:endParaRPr b="0" lang="en-US" sz="1600" spc="-1" strike="noStrike">
              <a:solidFill>
                <a:srgbClr val="006699"/>
              </a:solidFill>
              <a:latin typeface="Verdana"/>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6699"/>
                </a:solidFill>
                <a:latin typeface="Arial"/>
              </a:rPr>
              <a:t>неден жасалады?</a:t>
            </a:r>
            <a:endParaRPr b="0" lang="en-US" sz="1600" spc="-1" strike="noStrike">
              <a:solidFill>
                <a:srgbClr val="006699"/>
              </a:solidFill>
              <a:latin typeface="Verdana"/>
            </a:endParaRPr>
          </a:p>
        </p:txBody>
      </p:sp>
      <p:sp>
        <p:nvSpPr>
          <p:cNvPr id="239" name="Text Box 39"/>
          <p:cNvSpPr/>
          <p:nvPr/>
        </p:nvSpPr>
        <p:spPr>
          <a:xfrm>
            <a:off x="1258920" y="7650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Әусек пен Сәусек</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40" name="Picture 2" descr="Image result for ÑÐ¾Ð½Ñ ÑÐµÐºÐ»Ð°Ð¼Ð°"/>
          <p:cNvPicPr/>
          <p:nvPr/>
        </p:nvPicPr>
        <p:blipFill>
          <a:blip r:embed="rId1"/>
          <a:stretch/>
        </p:blipFill>
        <p:spPr>
          <a:xfrm>
            <a:off x="0" y="0"/>
            <a:ext cx="9144000" cy="6858000"/>
          </a:xfrm>
          <a:prstGeom prst="rect">
            <a:avLst/>
          </a:prstGeom>
          <a:ln w="0">
            <a:noFill/>
          </a:ln>
        </p:spPr>
      </p:pic>
      <p:sp>
        <p:nvSpPr>
          <p:cNvPr id="241" name="Text Box 4"/>
          <p:cNvSpPr/>
          <p:nvPr/>
        </p:nvSpPr>
        <p:spPr>
          <a:xfrm>
            <a:off x="1743120" y="352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42" name="Rectangle 6"/>
          <p:cNvSpPr/>
          <p:nvPr/>
        </p:nvSpPr>
        <p:spPr>
          <a:xfrm>
            <a:off x="755640" y="189000"/>
            <a:ext cx="4464000" cy="6465600"/>
          </a:xfrm>
          <a:prstGeom prst="rect">
            <a:avLst/>
          </a:prstGeom>
          <a:noFill/>
          <a:ln w="0">
            <a:noFill/>
          </a:ln>
        </p:spPr>
        <p:style>
          <a:lnRef idx="0"/>
          <a:fillRef idx="0"/>
          <a:effectRef idx="0"/>
          <a:fontRef idx="minor"/>
        </p:style>
        <p:txBody>
          <a:bodyPr lIns="90000" rIns="90000" tIns="46800" bIns="46800" anchor="ctr">
            <a:spAutoFit/>
          </a:bodyPr>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6699"/>
                </a:solidFill>
                <a:latin typeface="Arial"/>
              </a:rPr>
              <a:t>      </a:t>
            </a:r>
            <a:r>
              <a:rPr b="1" i="1" lang="kk-KZ" sz="2000" spc="-1" strike="noStrike">
                <a:solidFill>
                  <a:srgbClr val="006699"/>
                </a:solidFill>
                <a:latin typeface="Georgia"/>
              </a:rPr>
              <a:t>Әке мен бала</a:t>
            </a:r>
            <a:endParaRPr b="0" lang="en-US" sz="2000" spc="-1" strike="noStrike">
              <a:solidFill>
                <a:srgbClr val="006699"/>
              </a:solidFill>
              <a:latin typeface="Verdana"/>
            </a:endParaRPr>
          </a:p>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Georgia"/>
              </a:rPr>
              <a:t>- Папа, ит арақ іше ме?</a:t>
            </a:r>
            <a:endParaRPr b="0" lang="en-US" sz="2000" spc="-1" strike="noStrike">
              <a:solidFill>
                <a:srgbClr val="006699"/>
              </a:solidFill>
              <a:latin typeface="Verdana"/>
            </a:endParaRPr>
          </a:p>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Georgia"/>
              </a:rPr>
              <a:t>- Ішпейді.</a:t>
            </a:r>
            <a:endParaRPr b="0" lang="en-US" sz="2000" spc="-1" strike="noStrike">
              <a:solidFill>
                <a:srgbClr val="006699"/>
              </a:solidFill>
              <a:latin typeface="Verdana"/>
            </a:endParaRPr>
          </a:p>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Georgia"/>
              </a:rPr>
              <a:t>- Шошқа іше ме?</a:t>
            </a:r>
            <a:endParaRPr b="0" lang="en-US" sz="2000" spc="-1" strike="noStrike">
              <a:solidFill>
                <a:srgbClr val="006699"/>
              </a:solidFill>
              <a:latin typeface="Verdana"/>
            </a:endParaRPr>
          </a:p>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Georgia"/>
              </a:rPr>
              <a:t>- Ішпейді.</a:t>
            </a:r>
            <a:endParaRPr b="0" lang="en-US" sz="2000" spc="-1" strike="noStrike">
              <a:solidFill>
                <a:srgbClr val="006699"/>
              </a:solidFill>
              <a:latin typeface="Verdana"/>
            </a:endParaRPr>
          </a:p>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Georgia"/>
              </a:rPr>
              <a:t>- Есек іше ме?</a:t>
            </a:r>
            <a:endParaRPr b="0" lang="en-US" sz="2000" spc="-1" strike="noStrike">
              <a:solidFill>
                <a:srgbClr val="006699"/>
              </a:solidFill>
              <a:latin typeface="Verdana"/>
            </a:endParaRPr>
          </a:p>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Georgia"/>
              </a:rPr>
              <a:t>- Ішпейді.</a:t>
            </a:r>
            <a:endParaRPr b="0" lang="en-US" sz="2000" spc="-1" strike="noStrike">
              <a:solidFill>
                <a:srgbClr val="006699"/>
              </a:solidFill>
              <a:latin typeface="Verdana"/>
            </a:endParaRPr>
          </a:p>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Georgia"/>
              </a:rPr>
              <a:t>- Ал сіз неге ішесіз?</a:t>
            </a:r>
            <a:endParaRPr b="0" lang="en-US" sz="2000" spc="-1" strike="noStrike">
              <a:solidFill>
                <a:srgbClr val="006699"/>
              </a:solidFill>
              <a:latin typeface="Verdana"/>
            </a:endParaRPr>
          </a:p>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Georgia"/>
              </a:rPr>
              <a:t>Әкеде үн жоқ, </a:t>
            </a:r>
            <a:endParaRPr b="0" lang="en-US" sz="2000" spc="-1" strike="noStrike">
              <a:solidFill>
                <a:srgbClr val="006699"/>
              </a:solidFill>
              <a:latin typeface="Verdana"/>
            </a:endParaRPr>
          </a:p>
          <a:p>
            <a:pPr algn="just">
              <a:lnSpc>
                <a:spcPct val="190000"/>
              </a:lnSpc>
              <a:tabLst>
                <a:tab algn="l" pos="0"/>
                <a:tab algn="l" pos="157788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ff0000"/>
                </a:solidFill>
                <a:latin typeface="Georgia"/>
              </a:rPr>
              <a:t>Ал,тауып    айтқан балада   мін жоқ. </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66cc"/>
            </a:gs>
            <a:gs pos="100000">
              <a:srgbClr val="ffffff"/>
            </a:gs>
          </a:gsLst>
          <a:lin ang="5400000"/>
        </a:gradFill>
      </p:bgPr>
    </p:bg>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0" y="0"/>
            <a:ext cx="9144000" cy="6858000"/>
          </a:xfrm>
          <a:prstGeom prst="rect">
            <a:avLst/>
          </a:prstGeom>
          <a:ln w="0">
            <a:noFill/>
          </a:ln>
        </p:spPr>
      </p:pic>
      <p:sp>
        <p:nvSpPr>
          <p:cNvPr id="244" name="WordArt 4"/>
          <p:cNvSpPr txBox="1"/>
          <p:nvPr/>
        </p:nvSpPr>
        <p:spPr>
          <a:xfrm>
            <a:off x="611280" y="2708280"/>
            <a:ext cx="7777080" cy="936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blipFill rotWithShape="0">
                  <a:blip r:embed="rId2"/>
                  <a:srcRect/>
                  <a:stretch/>
                </a:blipFill>
                <a:latin typeface="Times New Roman"/>
              </a:rPr>
              <a:t>Ар-ұят, алаяқтық,көре алмаушылық, арамдық, дүние қорлық</a:t>
            </a:r>
            <a:endParaRPr b="1" lang="en-US" sz="2000" spc="1" strike="noStrike">
              <a:ln w="9360">
                <a:solidFill>
                  <a:srgbClr val="000000"/>
                </a:solidFill>
                <a:miter/>
              </a:ln>
              <a:blipFill rotWithShape="0">
                <a:blip r:embed="rId3"/>
                <a:srcRect/>
                <a:stretch/>
              </a:blipFill>
              <a:latin typeface="Times New Roman"/>
              <a:ea typeface="Times New Roman"/>
            </a:endParaRPr>
          </a:p>
        </p:txBody>
      </p:sp>
      <p:sp>
        <p:nvSpPr>
          <p:cNvPr id="245" name="AutoShape 6"/>
          <p:cNvSpPr/>
          <p:nvPr/>
        </p:nvSpPr>
        <p:spPr>
          <a:xfrm>
            <a:off x="2556000" y="4941720"/>
            <a:ext cx="2303280" cy="1186200"/>
          </a:xfrm>
          <a:prstGeom prst="cloudCallout">
            <a:avLst>
              <a:gd name="adj1" fmla="val -47518"/>
              <a:gd name="adj2" fmla="val 60310"/>
            </a:avLst>
          </a:prstGeom>
          <a:solidFill>
            <a:srgbClr val="ff0000"/>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Қарыз бен қарғыс</a:t>
            </a:r>
            <a:endParaRPr b="0" lang="en-US" sz="1800" spc="-1" strike="noStrike">
              <a:solidFill>
                <a:srgbClr val="006699"/>
              </a:solidFill>
              <a:latin typeface="Verdana"/>
            </a:endParaRPr>
          </a:p>
        </p:txBody>
      </p:sp>
      <p:sp>
        <p:nvSpPr>
          <p:cNvPr id="246" name="AutoShape 7"/>
          <p:cNvSpPr/>
          <p:nvPr/>
        </p:nvSpPr>
        <p:spPr>
          <a:xfrm>
            <a:off x="1187280" y="333360"/>
            <a:ext cx="2665440" cy="792000"/>
          </a:xfrm>
          <a:prstGeom prst="cloudCallout">
            <a:avLst>
              <a:gd name="adj1" fmla="val -58458"/>
              <a:gd name="adj2" fmla="val 79060"/>
            </a:avLst>
          </a:prstGeom>
          <a:solidFill>
            <a:srgbClr val="99ccff"/>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6699"/>
                </a:solidFill>
                <a:latin typeface="Arial"/>
              </a:rPr>
              <a:t> </a:t>
            </a:r>
            <a:r>
              <a:rPr b="1" lang="kk-KZ" sz="1800" spc="-1" strike="noStrike">
                <a:solidFill>
                  <a:srgbClr val="006699"/>
                </a:solidFill>
                <a:latin typeface="Arial"/>
              </a:rPr>
              <a:t>Қытық</a:t>
            </a:r>
            <a:endParaRPr b="0" lang="en-US" sz="1800" spc="-1" strike="noStrike">
              <a:solidFill>
                <a:srgbClr val="006699"/>
              </a:solidFill>
              <a:latin typeface="Verdana"/>
            </a:endParaRPr>
          </a:p>
        </p:txBody>
      </p:sp>
      <p:sp>
        <p:nvSpPr>
          <p:cNvPr id="247" name="AutoShape 8"/>
          <p:cNvSpPr/>
          <p:nvPr/>
        </p:nvSpPr>
        <p:spPr>
          <a:xfrm>
            <a:off x="2843280" y="1413000"/>
            <a:ext cx="3168720" cy="792000"/>
          </a:xfrm>
          <a:prstGeom prst="cloudCallout">
            <a:avLst>
              <a:gd name="adj1" fmla="val -34416"/>
              <a:gd name="adj2" fmla="val 85870"/>
            </a:avLst>
          </a:prstGeom>
          <a:solidFill>
            <a:srgbClr val="ccffcc"/>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Эксперимент</a:t>
            </a:r>
            <a:endParaRPr b="0" lang="en-US" sz="1800" spc="-1" strike="noStrike">
              <a:solidFill>
                <a:srgbClr val="006699"/>
              </a:solidFill>
              <a:latin typeface="Verdana"/>
            </a:endParaRPr>
          </a:p>
        </p:txBody>
      </p:sp>
      <p:sp>
        <p:nvSpPr>
          <p:cNvPr id="248" name="AutoShape 10"/>
          <p:cNvSpPr/>
          <p:nvPr/>
        </p:nvSpPr>
        <p:spPr>
          <a:xfrm>
            <a:off x="5580000" y="189000"/>
            <a:ext cx="2664000" cy="936360"/>
          </a:xfrm>
          <a:prstGeom prst="cloudCallout">
            <a:avLst>
              <a:gd name="adj1" fmla="val -43384"/>
              <a:gd name="adj2" fmla="val 70000"/>
            </a:avLst>
          </a:prstGeom>
          <a:solidFill>
            <a:srgbClr val="ff99cc"/>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Құлаққағыс</a:t>
            </a:r>
            <a:endParaRPr b="0" lang="en-US" sz="1800" spc="-1" strike="noStrike">
              <a:solidFill>
                <a:srgbClr val="006699"/>
              </a:solidFill>
              <a:latin typeface="Verdana"/>
            </a:endParaRPr>
          </a:p>
        </p:txBody>
      </p:sp>
      <p:sp>
        <p:nvSpPr>
          <p:cNvPr id="249" name="AutoShape 11"/>
          <p:cNvSpPr/>
          <p:nvPr/>
        </p:nvSpPr>
        <p:spPr>
          <a:xfrm>
            <a:off x="5003640" y="4221000"/>
            <a:ext cx="3311640" cy="1008360"/>
          </a:xfrm>
          <a:prstGeom prst="cloudCallout">
            <a:avLst>
              <a:gd name="adj1" fmla="val -43768"/>
              <a:gd name="adj2" fmla="val 44328"/>
            </a:avLst>
          </a:prstGeom>
          <a:solidFill>
            <a:srgbClr val="ffcc00"/>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Нерв неден қағынады?</a:t>
            </a:r>
            <a:endParaRPr b="0" lang="en-US" sz="1800" spc="-1" strike="noStrike">
              <a:solidFill>
                <a:srgbClr val="006699"/>
              </a:solidFill>
              <a:latin typeface="Verdana"/>
            </a:endParaRPr>
          </a:p>
        </p:txBody>
      </p:sp>
      <p:sp>
        <p:nvSpPr>
          <p:cNvPr id="250" name="AutoShape 12"/>
          <p:cNvSpPr/>
          <p:nvPr/>
        </p:nvSpPr>
        <p:spPr>
          <a:xfrm>
            <a:off x="539640" y="3789360"/>
            <a:ext cx="2376720" cy="865080"/>
          </a:xfrm>
          <a:prstGeom prst="cloudCallout">
            <a:avLst>
              <a:gd name="adj1" fmla="val -42787"/>
              <a:gd name="adj2" fmla="val 70000"/>
            </a:avLst>
          </a:prstGeom>
          <a:solidFill>
            <a:srgbClr val="ff9900"/>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6699"/>
                </a:solidFill>
                <a:latin typeface="Arial"/>
              </a:rPr>
              <a:t>Иттік</a:t>
            </a: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pic>
        <p:nvPicPr>
          <p:cNvPr id="251" name="Picture 2" descr=""/>
          <p:cNvPicPr/>
          <p:nvPr/>
        </p:nvPicPr>
        <p:blipFill>
          <a:blip r:embed="rId1"/>
          <a:stretch/>
        </p:blipFill>
        <p:spPr>
          <a:xfrm>
            <a:off x="0" y="0"/>
            <a:ext cx="9144000" cy="6858000"/>
          </a:xfrm>
          <a:prstGeom prst="rect">
            <a:avLst/>
          </a:prstGeom>
          <a:ln w="0">
            <a:noFill/>
          </a:ln>
        </p:spPr>
      </p:pic>
      <p:sp>
        <p:nvSpPr>
          <p:cNvPr id="252" name="AutoShape 8"/>
          <p:cNvSpPr/>
          <p:nvPr/>
        </p:nvSpPr>
        <p:spPr>
          <a:xfrm>
            <a:off x="250920" y="333360"/>
            <a:ext cx="3529080" cy="6191280"/>
          </a:xfrm>
          <a:custGeom>
            <a:avLst/>
            <a:gdLst>
              <a:gd name="textAreaLeft" fmla="*/ 172080 w 3529080"/>
              <a:gd name="textAreaRight" fmla="*/ 3357000 w 3529080"/>
              <a:gd name="textAreaTop" fmla="*/ 172080 h 6191280"/>
              <a:gd name="textAreaBottom" fmla="*/ 6019200 h 6191280"/>
            </a:gdLst>
            <a:ahLst/>
            <a:rect l="textAreaLeft" t="textAreaTop" r="textAreaRight" b="textAreaBottom"/>
            <a:pathLst>
              <a:path w="21600" h="37893">
                <a:moveTo>
                  <a:pt x="3600" y="0"/>
                </a:moveTo>
                <a:arcTo wR="3600" hR="3600" stAng="16200000" swAng="-5400000"/>
                <a:lnTo>
                  <a:pt x="0" y="34293"/>
                </a:lnTo>
                <a:arcTo wR="3600" hR="3600" stAng="10800000" swAng="-5400000"/>
                <a:lnTo>
                  <a:pt x="18000" y="37893"/>
                </a:lnTo>
                <a:arcTo wR="3600" hR="3600" stAng="5400000" swAng="-5400000"/>
                <a:lnTo>
                  <a:pt x="21600" y="3600"/>
                </a:lnTo>
                <a:arcTo wR="3600" hR="3600" stAng="0" swAng="-5400000"/>
                <a:close/>
              </a:path>
            </a:pathLst>
          </a:custGeom>
          <a:blipFill rotWithShape="0">
            <a:blip r:embed="rId2"/>
            <a:srcRect/>
            <a:stretch/>
          </a:blip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6699"/>
                </a:solidFill>
                <a:latin typeface="Arial"/>
              </a:rPr>
              <a:t>         </a:t>
            </a: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6699"/>
                </a:solidFill>
                <a:latin typeface="Arial"/>
              </a:rPr>
              <a:t>                    </a:t>
            </a: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cc3300"/>
                </a:solidFill>
                <a:latin typeface="Arial"/>
              </a:rPr>
              <a:t>Иттік</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Бір итті бір ит бұғып кеп,</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Дәл тірсектен тістеді.</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Тістеген ит күшті еді,</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Тарқады шері іштегі,</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 О, сорлы-ау, мынауың</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Өңім бе, әлде түсім бе?</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Өңім болса осыны </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Сен істейтін  іс пе еді ?</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                           </a:t>
            </a:r>
            <a:r>
              <a:rPr b="1" i="1" lang="kk-KZ" sz="1800" spc="-1" strike="noStrike">
                <a:solidFill>
                  <a:srgbClr val="006699"/>
                </a:solidFill>
                <a:latin typeface="Arial"/>
              </a:rPr>
              <a:t>Барып тұрған иттік қой!                      </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 </a:t>
            </a:r>
            <a:r>
              <a:rPr b="1" i="1" lang="kk-KZ" sz="1800" spc="-1" strike="noStrike">
                <a:solidFill>
                  <a:srgbClr val="006699"/>
                </a:solidFill>
                <a:latin typeface="Arial"/>
              </a:rPr>
              <a:t>***</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 </a:t>
            </a:r>
            <a:r>
              <a:rPr b="1" i="1" lang="kk-KZ" sz="1800" spc="-1" strike="noStrike">
                <a:solidFill>
                  <a:srgbClr val="006699"/>
                </a:solidFill>
                <a:latin typeface="Arial"/>
              </a:rPr>
              <a:t>Біз несіне күлеміз</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6699"/>
                </a:solidFill>
                <a:latin typeface="Arial"/>
              </a:rPr>
              <a:t>Өзіміз де талай сөйттік қой.</a:t>
            </a:r>
            <a:endParaRPr b="0" lang="en-US" sz="1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99"/>
              </a:solidFill>
              <a:latin typeface="Verdana"/>
            </a:endParaRPr>
          </a:p>
        </p:txBody>
      </p:sp>
      <p:pic>
        <p:nvPicPr>
          <p:cNvPr id="253" name="Picture 10" descr="draka"/>
          <p:cNvPicPr/>
          <p:nvPr/>
        </p:nvPicPr>
        <p:blipFill>
          <a:blip r:embed="rId3"/>
          <a:stretch/>
        </p:blipFill>
        <p:spPr>
          <a:xfrm rot="21367800">
            <a:off x="4500720" y="1773000"/>
            <a:ext cx="4032000" cy="362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4:45:17Z</dcterms:created>
  <dc:creator>31</dc:creator>
  <dc:description/>
  <dc:language>en-US</dc:language>
  <cp:lastModifiedBy>User</cp:lastModifiedBy>
  <dcterms:modified xsi:type="dcterms:W3CDTF">2019-01-10T10:05:57Z</dcterms:modified>
  <cp:revision>44</cp:revision>
  <dc:subject/>
  <dc:title>Слайд 1</dc:title>
</cp:coreProperties>
</file>